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C4C5-1DD1-4F8D-BB9D-64FD01FD1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5520" y="3812760"/>
            <a:ext cx="9099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8847-E719-4B73-967F-6A13B60EA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5520" y="381276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8240" y="381276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3EF4-360D-4172-AE4E-FC9D2C6A7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2080" y="106632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8640" y="106632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5520" y="381276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2080" y="381276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8640" y="381276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EF98-7BFF-4921-BE33-66824AC7B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794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5520" y="381276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E0B3-F8B9-4E8A-9763-DC3C1B72C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88240" y="381276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5520" y="3812760"/>
            <a:ext cx="9099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5520" y="3812760"/>
            <a:ext cx="9099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5520" y="381276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88240" y="381276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2080" y="106632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78640" y="106632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5520" y="381276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2080" y="381276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78640" y="3812760"/>
            <a:ext cx="2929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7CC1-CCA7-40FF-8AD2-229A62BBE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2042-510C-4106-BC11-BF3240789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6519-13D5-41E1-BACE-5BC74B223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794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DF19-0EDB-414B-95B4-244F2443A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5520" y="381276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2D23-801A-4F3C-8254-02F435762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8240" y="381276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1334-8E23-4AA7-A5EB-EB73BFDE7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8240" y="1066320"/>
            <a:ext cx="4440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5520" y="3812760"/>
            <a:ext cx="9099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3744-ABC5-48B7-963E-76A9809DD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0"/>
            <a:ext cx="9582120" cy="6470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906120" cy="74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95720" y="655272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  <a:ea typeface="으뜸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1B0-0435-498A-8D23-945C7961024D}" type="slidenum">
              <a:rPr b="0" i="1" lang="en-US" sz="1200" spc="-1" strike="noStrike">
                <a:solidFill>
                  <a:srgbClr val="ffffff"/>
                </a:solidFill>
                <a:latin typeface="Arial"/>
                <a:ea typeface="으뜸체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600" y="6553080"/>
            <a:ext cx="5867280" cy="2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2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ffff"/>
                </a:solidFill>
                <a:latin typeface="굴림"/>
              </a:rPr>
              <a:t>&lt;footer&gt;</a:t>
            </a:r>
            <a:r>
              <a:rPr b="1" i="1" lang="ko-KR" sz="1200" spc="-1" strike="noStrike">
                <a:solidFill>
                  <a:srgbClr val="ffffff"/>
                </a:solidFill>
                <a:latin typeface="굴림"/>
              </a:rPr>
              <a:t>매경 지식 주간 세미나</a:t>
            </a:r>
            <a:r>
              <a:rPr b="1" i="1" lang="ko-KR" sz="1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i="1" lang="ko-KR" sz="1200" spc="-1" strike="noStrike">
                <a:solidFill>
                  <a:srgbClr val="ffffff"/>
                </a:solidFill>
                <a:latin typeface="굴림"/>
              </a:rPr>
              <a:t>현대경제연구원 오성중 </a:t>
            </a:r>
            <a:r>
              <a:rPr b="1" i="1" lang="ko-KR" sz="1200" spc="-1" strike="noStrike">
                <a:solidFill>
                  <a:srgbClr val="ffffff"/>
                </a:solidFill>
                <a:latin typeface="굴림"/>
              </a:rPr>
              <a:t>2000.11. 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0240" y="8377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3300"/>
                </a:solidFill>
                <a:latin typeface="굴림"/>
              </a:rPr>
              <a:t>매경 지식 주간 세미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3300"/>
                </a:solidFill>
                <a:latin typeface="굴림"/>
              </a:rPr>
              <a:t>2000</a:t>
            </a:r>
            <a:r>
              <a:rPr b="1" lang="ko-KR" sz="1400" spc="-1" strike="noStrike">
                <a:solidFill>
                  <a:srgbClr val="cc3300"/>
                </a:solidFill>
                <a:latin typeface="굴림"/>
              </a:rPr>
              <a:t>년 </a:t>
            </a:r>
            <a:r>
              <a:rPr b="1" lang="ko-KR" sz="1400" spc="-1" strike="noStrike">
                <a:solidFill>
                  <a:srgbClr val="cc3300"/>
                </a:solidFill>
                <a:latin typeface="굴림"/>
              </a:rPr>
              <a:t>11</a:t>
            </a:r>
            <a:r>
              <a:rPr b="1" lang="ko-KR" sz="1400" spc="-1" strike="noStrike">
                <a:solidFill>
                  <a:srgbClr val="cc3300"/>
                </a:solidFill>
                <a:latin typeface="굴림"/>
              </a:rPr>
              <a:t>월 </a:t>
            </a:r>
            <a:r>
              <a:rPr b="1" lang="ko-KR" sz="1400" spc="-1" strike="noStrike">
                <a:solidFill>
                  <a:srgbClr val="cc3300"/>
                </a:solidFill>
                <a:latin typeface="굴림"/>
              </a:rPr>
              <a:t>2</a:t>
            </a:r>
            <a:r>
              <a:rPr b="1" lang="ko-KR" sz="1400" spc="-1" strike="noStrike">
                <a:solidFill>
                  <a:srgbClr val="cc3300"/>
                </a:solidFill>
                <a:latin typeface="굴림"/>
              </a:rPr>
              <a:t>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315200" cy="76176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지적 자산 평가 방법 및 적용 지침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560" y="571464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수석연구위원 오성중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2362320"/>
            <a:ext cx="5220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91960" indent="-29196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굴림"/>
              </a:rPr>
              <a:t>Ⅰ</a:t>
            </a:r>
            <a:r>
              <a:rPr b="1" lang="en-US" sz="2200" spc="-1" strike="noStrike">
                <a:solidFill>
                  <a:srgbClr val="000066"/>
                </a:solidFill>
                <a:latin typeface="굴림"/>
              </a:rPr>
              <a:t>. </a:t>
            </a:r>
            <a:r>
              <a:rPr b="1" lang="zh-CN" sz="2200" spc="-1" strike="noStrike">
                <a:solidFill>
                  <a:srgbClr val="000066"/>
                </a:solidFill>
                <a:latin typeface="굴림"/>
              </a:rPr>
              <a:t>지적 자산 평가의 배경 및 목적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굴림"/>
              </a:rPr>
              <a:t>Ⅱ</a:t>
            </a:r>
            <a:r>
              <a:rPr b="1" lang="en-US" sz="2200" spc="-1" strike="noStrike">
                <a:solidFill>
                  <a:srgbClr val="000066"/>
                </a:solidFill>
                <a:latin typeface="굴림"/>
              </a:rPr>
              <a:t>. </a:t>
            </a:r>
            <a:r>
              <a:rPr b="1" lang="zh-CN" sz="2200" spc="-1" strike="noStrike">
                <a:solidFill>
                  <a:srgbClr val="000066"/>
                </a:solidFill>
                <a:latin typeface="굴림"/>
              </a:rPr>
              <a:t>지적 자산의 분류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굴림"/>
              </a:rPr>
              <a:t>Ⅲ</a:t>
            </a:r>
            <a:r>
              <a:rPr b="1" lang="en-US" sz="2200" spc="-1" strike="noStrike">
                <a:solidFill>
                  <a:srgbClr val="000066"/>
                </a:solidFill>
                <a:latin typeface="굴림"/>
              </a:rPr>
              <a:t>. </a:t>
            </a:r>
            <a:r>
              <a:rPr b="1" lang="zh-CN" sz="2200" spc="-1" strike="noStrike">
                <a:solidFill>
                  <a:srgbClr val="000066"/>
                </a:solidFill>
                <a:latin typeface="굴림"/>
              </a:rPr>
              <a:t>지적 자산의 평가 방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굴림"/>
              </a:rPr>
              <a:t>Ⅳ</a:t>
            </a:r>
            <a:r>
              <a:rPr b="1" lang="en-US" sz="2200" spc="-1" strike="noStrike">
                <a:solidFill>
                  <a:srgbClr val="000066"/>
                </a:solidFill>
                <a:latin typeface="굴림"/>
              </a:rPr>
              <a:t>. </a:t>
            </a:r>
            <a:r>
              <a:rPr b="1" lang="zh-CN" sz="2200" spc="-1" strike="noStrike">
                <a:solidFill>
                  <a:srgbClr val="000066"/>
                </a:solidFill>
                <a:latin typeface="굴림"/>
              </a:rPr>
              <a:t>적용 지침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05320" y="5429160"/>
            <a:ext cx="3200400" cy="43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629400" y="53341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인적 초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Human Focus)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다른 지적 초점에 모두 연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조직 내의 능동적인 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직원의 경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혁신력의 조합과 이 조합을 변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유지하려는 회사의 전략과 관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2028960"/>
            <a:ext cx="77724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도력지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2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동기부여지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3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권한이양지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1,000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준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(#)  4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  5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제휴회사의 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6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이직률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7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평균근속년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8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자수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9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여성관리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10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훈련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1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평균연령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12 40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세 미만 직원의 비율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3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훈련시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일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(#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0400" y="1860480"/>
            <a:ext cx="31161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의 인적 초점 지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F295-CEDF-4DEC-A1E0-01AA0F77AE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균형평가표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(BSC: Balanced Score Car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캐플란과 노튼의 균형평가표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다양한 비재무적 지표를 활용한 과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현재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미래의 성과와 가치 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BSC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의 네 가지 관점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회사의 비전 달성과 전략 수행을 위해 중요한 목표들을 네 가지 관점으로 분류하여 기업 성과 및 가치를 평가할 것을 제안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즉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재무적 관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관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내부 비즈니스 관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학습과 성장 관점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BSC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에서 비전과 전략은 네 가지 관점에서의 목표들로 표현되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각 목표의 달성 정도는 세부 지표에 의해 측정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세부 지표에서는 전략적 중요도에 따라 가중치가 주어져 종합 지표가 산출되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각 지표의 현재 수준은 향후의 목표 수준과 비교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재무적 관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financial perspe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BSC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는 달성된 성과를 정량화된 재무적 측정 지표로 표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대표적 지표로는 투자수익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경제적 부가가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EVA)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수익성 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06DF-15CE-4A76-9457-D60CF3C4DA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관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customer perspe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목표 고객과 세부 시장에 대한 목표와 측정 지표 규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대표적인 측정 지표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확보율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수익성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유지율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만족도 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내부 비즈니스 관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internal business perspe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재무적 목표와 고객 목표 달성에 핵심적인 내부 비즈니스 프로세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존 운영 프로세스 개선 외에 프로세스의 통합 및 미래에 제공할 서비스를 위한 프로세스 개발도 중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대표적 측정 지표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프로세스 타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프로세스 품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프로세스 원가 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학습과 성장 관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learning and growth perspe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장기적인 관점과 가치 창조를 위해 필요한 목표와 측정 지표 개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앞의 세 관점에서 설정한 목표 성취에 조직의 학습과 성장 역량 측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이 관점에서는 직원의 역량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시스템 역량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조직 역량 등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개 영역이 존재하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각 영역별로 세부적인 측정 지표 개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E05F-8E7E-499A-902B-AA3BDFC134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2920" y="3398760"/>
            <a:ext cx="762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비전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전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1520" y="3048120"/>
            <a:ext cx="304920" cy="19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781520" y="4160160"/>
            <a:ext cx="304920" cy="182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6200000">
            <a:off x="5559120" y="3610800"/>
            <a:ext cx="304920" cy="260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 rot="5400000">
            <a:off x="4016160" y="3585240"/>
            <a:ext cx="304920" cy="311040"/>
          </a:xfrm>
          <a:prstGeom prst="upArrow">
            <a:avLst>
              <a:gd name="adj1" fmla="val 50000"/>
              <a:gd name="adj2" fmla="val 2550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70280" y="2438280"/>
            <a:ext cx="1218960" cy="838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42080" y="2438280"/>
            <a:ext cx="1218960" cy="762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0120" y="4343400"/>
            <a:ext cx="1066680" cy="685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841720" y="4267080"/>
            <a:ext cx="1060200" cy="762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38080" y="1828800"/>
            <a:ext cx="9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우리는 주주에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어떻게 보여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하는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3440" y="2641680"/>
            <a:ext cx="9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우리는 고객에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어떻게 보여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하는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1240" y="4317840"/>
            <a:ext cx="9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우리는 어떤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프로세스에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탁월해야 하는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4880" y="4680000"/>
            <a:ext cx="108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우리는 지속적으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개선하고 가치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창조할 수 있는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077920"/>
            <a:ext cx="168444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재무적 관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77440" y="2401920"/>
            <a:ext cx="586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측정 지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2401920"/>
            <a:ext cx="838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목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687760"/>
            <a:ext cx="83808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2960" y="3297240"/>
            <a:ext cx="167328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내부 비즈니스 관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7800" y="4473720"/>
            <a:ext cx="167796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학습과 성장 관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90720" y="3373560"/>
            <a:ext cx="167796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고객 관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90720" y="3689280"/>
            <a:ext cx="1676520" cy="568440"/>
            <a:chOff x="1890720" y="3689280"/>
            <a:chExt cx="1676520" cy="568440"/>
          </a:xfrm>
        </p:grpSpPr>
        <p:sp>
          <p:nvSpPr>
            <p:cNvPr id="181" name=""/>
            <p:cNvSpPr/>
            <p:nvPr/>
          </p:nvSpPr>
          <p:spPr>
            <a:xfrm>
              <a:off x="2853360" y="3689280"/>
              <a:ext cx="58608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측정 지표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90720" y="3689280"/>
              <a:ext cx="83844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목표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90720" y="3973680"/>
              <a:ext cx="838440" cy="284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29160" y="3973680"/>
              <a:ext cx="838080" cy="284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108680" y="1676520"/>
            <a:ext cx="162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BSC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의 네 가지 관점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74600" y="5486400"/>
            <a:ext cx="652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자료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: Alan Butler, Steve R. Letza and Bill Neale, “Linking the Balanced Scorecard to Strategy”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Long Range Planning, Vol. 30, No.3, 1997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2687760"/>
            <a:ext cx="84132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219720" y="3621240"/>
            <a:ext cx="1683000" cy="569880"/>
            <a:chOff x="6219720" y="3621240"/>
            <a:chExt cx="1683000" cy="569880"/>
          </a:xfrm>
        </p:grpSpPr>
        <p:sp>
          <p:nvSpPr>
            <p:cNvPr id="189" name=""/>
            <p:cNvSpPr/>
            <p:nvPr/>
          </p:nvSpPr>
          <p:spPr>
            <a:xfrm>
              <a:off x="7185600" y="3621240"/>
              <a:ext cx="58608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측정 지표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19720" y="3621240"/>
              <a:ext cx="83844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목표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19720" y="3906720"/>
              <a:ext cx="838440" cy="28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61040" y="3906720"/>
              <a:ext cx="841680" cy="28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089240" y="4800600"/>
            <a:ext cx="1676520" cy="568440"/>
            <a:chOff x="4089240" y="4800600"/>
            <a:chExt cx="1676520" cy="568440"/>
          </a:xfrm>
        </p:grpSpPr>
        <p:sp>
          <p:nvSpPr>
            <p:cNvPr id="194" name=""/>
            <p:cNvSpPr/>
            <p:nvPr/>
          </p:nvSpPr>
          <p:spPr>
            <a:xfrm>
              <a:off x="5051880" y="4800600"/>
              <a:ext cx="58608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측정 지표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89240" y="4800600"/>
              <a:ext cx="83844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목표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89240" y="5085000"/>
              <a:ext cx="838440" cy="284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24440" y="5085000"/>
              <a:ext cx="841320" cy="284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3909-A5FA-4DB0-82DE-B43EFAA99B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lt;BSC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의 적용 사례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인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제지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포장업체인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RCE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사의 사례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첫째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핵심 성과 지표를 규정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우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자사의 평가 시스템과 정보 수집 방법을 평가한 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자들에 대한 개별 인터뷰를 실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인터뷰 결과를 토대로 핵심 측정 지표 결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둘째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세 가지 관점을 적용한 독자적인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BSC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적용 모델을 만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RCE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사의 문화에는 캐플란과 노튼의 ‘네 가지 관점’이 부적합하다고 보고 자체 적용 모델 개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이 자체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BSC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모델은 ‘주주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재무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점’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획기적인 성장 관점’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속적인 개선 관점’ 등 세 가지 관점을 적용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셋째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BSC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모델을 확정하고 실행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각 측정 지표의 정의 및 계산 방법의 확정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데이터 수집원의 확인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BSC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의 보고 양식 확정 등의 작업 수행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이러한 일련의 과정이 완료된 후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BSC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모델을 성과 측정에 활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8B66-7AD7-474D-A0D1-D2D4DBA956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752480"/>
            <a:ext cx="152424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주주 관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1243440"/>
            <a:ext cx="12193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목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1523880"/>
            <a:ext cx="12193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순자산 수익율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개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123984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측정 지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123984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단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239840"/>
            <a:ext cx="9144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현재 수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239840"/>
            <a:ext cx="9144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목표 수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1239840"/>
            <a:ext cx="9144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경쟁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152388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총이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52388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1523880"/>
            <a:ext cx="914400" cy="2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1523880"/>
            <a:ext cx="914400" cy="2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10480" y="1523880"/>
            <a:ext cx="914400" cy="2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180648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매출액 대비 제조간접비 비중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180648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1806480"/>
            <a:ext cx="914400" cy="2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1806480"/>
            <a:ext cx="914400" cy="2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10480" y="1806480"/>
            <a:ext cx="914400" cy="2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208764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운전 자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208764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208764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08764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208764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687760"/>
            <a:ext cx="152424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획기적인 성장 관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2373480"/>
            <a:ext cx="1219320" cy="110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매출액 증대 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고객 기반 확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36232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매출액 성장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36232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23623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23623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10480" y="23623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264492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신제품이 매출에서 차지하는 비중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264492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26449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6449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10480" y="26449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292572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매출에서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대 고객이 차지하는 비중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292572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29257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6080" y="29257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610480" y="29257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21156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C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가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위를 하는 시장에서의 점유율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321156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321156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96080" y="321156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10480" y="321156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4745160"/>
            <a:ext cx="152424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지속적인 개선 관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3495600"/>
            <a:ext cx="1219320" cy="14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수익 개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47832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생산 가동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47832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1680" y="34783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96080" y="34783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610480" y="34783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377208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낭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377208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77208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377208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10480" y="377208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405288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생산 원가 절감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405288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405288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405288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10480" y="405288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433872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신제품 개발에 의한 총이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72200" y="433872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43387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96080" y="43387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10480" y="433872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462600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반품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462600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462600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96080" y="462600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10480" y="462600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4917960"/>
            <a:ext cx="1219320" cy="141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사이클 타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감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92120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신제품 개발에서의 상업화 기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492120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492120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492120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492120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20380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신제품 개발에서의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&amp;D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기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520380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81680" y="520380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96080" y="520380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520380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548496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신제품 개발 효율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548496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1680" y="548496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548496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610480" y="548496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577044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상업화 후 재작업 건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577044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5770440"/>
            <a:ext cx="914400" cy="2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96080" y="5770440"/>
            <a:ext cx="914400" cy="2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610480" y="5770440"/>
            <a:ext cx="914400" cy="28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6058080"/>
            <a:ext cx="29718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적시 납기율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6058080"/>
            <a:ext cx="609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81680" y="605808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96080" y="605808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610480" y="6058080"/>
            <a:ext cx="914400" cy="28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6095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자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전게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61880" y="914400"/>
            <a:ext cx="19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&lt;RCE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사의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BSC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측정표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453F-B1BE-4AED-AC2B-3210A57E61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다우의 기술요소평가법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도입 배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94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2,500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만 달러 특허 수입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특허 갱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유지 관리 비용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3,000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만 달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적 자산에 대한 체계적인 관리의 필요성 인식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적 자산 관리 전담상설팀 구성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술요소평가법이라는 지적 자산 경제성 평가 모델 개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목적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평가 대상 및 효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목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특허와 기술이 다우의 경영 활동에 미치는 기여도 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평가 대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앞에서의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 분류 지적자산 총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25,000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여 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효과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불필요한 특허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14%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를 매각해 약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4,000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만 달러의 비용 절감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평가 방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1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적 자산의 유용성과 경쟁 우위성을 측정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적 자산의 가치는 유용성과 경쟁 우위성의 두 가지 측면에서 분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이들은 구체적 평가를 위해 각각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5∼6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개의 세부 평가 항목으로 구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1584-1315-426B-9CF4-074E5EC02F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세부 평가 항목은 중요도에 따라 항목별로 가중치를 부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각 항목에 대한 평가 기준은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점 척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평가 결과는 팀전원의 합의가 되도록 상호 협의해 각 항목별로 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2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유용성과 경쟁 우위성의 평가 결과를 가중 평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측정 항목의 평가 점수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가중치’의 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하여 기술 요소 계수를 계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계수는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로 산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3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새로운 특허 출원 혹은 신기술 개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도입으로 인해 발생되는 미래의 현금 흐름 증가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CF</a:t>
            </a:r>
            <a:r>
              <a:rPr b="0" lang="ko-KR" sz="1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을 현재가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NPV = ∑ CF</a:t>
            </a:r>
            <a:r>
              <a:rPr b="0" lang="ko-KR" sz="1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(1+WACC)</a:t>
            </a:r>
            <a:r>
              <a:rPr b="0" lang="ko-KR" sz="16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로 환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WACC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는 자기자본과 타인자본의 각 비용을 가중 평균한 자본 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4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술 요소 지수와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에서 계산된 ‘기술 도입으로 인한 예상 미래 수익 증가분의 현재가치’를 곱해 최종적인 지적 자산 가치 산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[TechFactor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계수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× ∑ CF</a:t>
            </a:r>
            <a:r>
              <a:rPr b="0" lang="ko-KR" sz="16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(1+WACC)</a:t>
            </a:r>
            <a:r>
              <a:rPr b="0" lang="ko-KR" sz="16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871C-6E33-496C-992C-76A12E1893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1792440"/>
            <a:ext cx="2895480" cy="314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세부 평가 항목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가중치의 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53440" y="14256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다우의 지적 자산의 유용성 평가 항목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1792440"/>
            <a:ext cx="4800600" cy="314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가치에 대한 효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111400"/>
            <a:ext cx="28987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다우케미컬에 미치는 유용성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(20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111400"/>
            <a:ext cx="4800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현재와 사업 전략에 기술이 적합한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사업의 수직 통합에 기술이 적합한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2644920"/>
            <a:ext cx="289872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타기업에 미치는 유용성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(15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2644920"/>
            <a:ext cx="48006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이 기술이 타기업에도 유용하게 사용될 수 있는가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얼마나 많은 기업들이 이 기술을 사용할 것인가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경쟁사가 기꺼이 이 기술 특허에 돈을 지불할 의사가  있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것인가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3635280"/>
            <a:ext cx="28987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실제 적용에 요구되는 자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3635280"/>
            <a:ext cx="48006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사업의 종류에 따라 달라지겠지만 일반적으로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억 달러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이상의 자금이 소요된다면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차라리 저위험 프로젝트를 추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하는 것이 합리적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4397400"/>
            <a:ext cx="28987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실제 적용에 요구되는 시간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4397400"/>
            <a:ext cx="4800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실제 적용과 구현에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년 이상이 소요된다면 위험이 상당히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증가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4930920"/>
            <a:ext cx="28987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기술의 유효 라이프 타임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930920"/>
            <a:ext cx="48006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투자된 비용과 기대 수익을 회수할 수 있을 정도로 라이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사이클이 긴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45560" y="5486400"/>
            <a:ext cx="218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자료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포스코 경영연구소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「지식경영」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,  1998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Arthur D. Little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자료  참조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1E9F-0B60-428E-AE3E-0D7C231B21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1944720"/>
            <a:ext cx="2895480" cy="314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세부 평가 항목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가중치의 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97560" y="157788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다우의 지적 자산의 경쟁 우위성 평가 항목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1944720"/>
            <a:ext cx="4800600" cy="314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가치에 대한 효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2263680"/>
            <a:ext cx="28987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차별화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2263680"/>
            <a:ext cx="4800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기술이 시장 점유율을 높일 수 있는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고객들이 높은 가격으로 제품을 구매할 것인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2797200"/>
            <a:ext cx="2898720" cy="70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대체성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797200"/>
            <a:ext cx="4800600" cy="70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유사한 제품과 기술이 존재하는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다른 제품 혹은 프로세스가 동일 시장에서 이 기술과 경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할 수 있을 것인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3505320"/>
            <a:ext cx="289872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법적인 강점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3505320"/>
            <a:ext cx="48006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특허의 방어력은 있는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기술이 유일할 것인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특허 만료 기간이 충분히 긴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4267080"/>
            <a:ext cx="28987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예상되는 경쟁 대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38480" y="4267080"/>
            <a:ext cx="4800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경쟁사들이 특허의 부당성에 대해 공격하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이를 문제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삼을 것인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4800600"/>
            <a:ext cx="28987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기술 사용의 권리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4800600"/>
            <a:ext cx="4800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독점권이 충분이 있는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45560" y="5410080"/>
            <a:ext cx="218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자료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포스코 경영연구소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「지식경영」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,  1998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Arthur D. Little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자료  참조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60F2-571F-4B78-941D-7B33CCA35E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지적 자산 평가의 배경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핵심 경쟁 우위 요소의 변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토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노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자본 등 유형 자산 → 브랜드 가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배타적 판매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특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노하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스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고객 지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경영시스템 역량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기타 지식 등 무형 자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시장에서의 기업 가치 평가 기준의 변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자본과 부채의 합인 자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장부가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→ (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자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무형 자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이익 중심의 기존 재무적 수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과거 의사결정 결과의 측정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→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무형의 능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미래의 기업 성과를 예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보유 지식의 실체를 파악하지 못함에 따른 비효율성 증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지적 자산 투자에 대한 비효율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기존 지식의 효율적 활용 미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지적 자산 보유 비용의 증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특허 보유 비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지식 저장 비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지식 탐색 비용 등 증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Ⅰ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 평가의 배경 및 목적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E10C-46BC-4C71-82A2-23C8D1CF99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Ⅳ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적용 지침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목적에 따른 적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업 가치 평가의 기준 및 중요한 경영의 초점 제공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 방법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균평평가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 투자의 정당화 근거 제공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 방법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균형평가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자사내 또는 부서내 무형 자산의 종합적 평가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 방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개별 지적 자산의 효율적 관리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술요소평가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자사에 맞도록 수정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보완 후 적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자사의 비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목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사업 내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핵심 프로세스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니즈 등을 감안하여 핵심 지적 자산과 평가 지표를 나름대로 선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비전이나 목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사업 전략 추진에 필요한 핵심 역량과 기술을 파악하고 이들 확보에 지침이 되도록 평가 지표 선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33FD-BE8B-47FD-980A-8554CC5053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Ⅳ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적용 지침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의 방법처럼 평가 작업에 많은 시간과 인력이 투입되어야 하는 경우 소요 비용과 효과를 비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검토하여 측정 지표 수정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조정 후 적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전사 차원이 아닌 부문이나 부서 차원에서 적용할 경우 좀더 세분화된 평가 지표 선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기업 가치사슬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(Value Chain)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의 효율화를 위한 적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업 경영의 토대인 기업 가치사슬을 목표 달성에 가장 적합하도록 효율화시킬 수 있도록 적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주활동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투입물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생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운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산출물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마케팅 및 판매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서비스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과 지원 활동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구매활동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경영정보시스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인적자원관리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업 인프라스트럭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술개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의 효율성과 가장 연관성 있는 평가 지표 선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급변하는 경영 환경에 필요한 경영 체질인 창조성과 민첩성을 높일 수 있도록 활동을 재편하고 불필요한 활동들을 제거하는 기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D8F5-06ED-4D82-98BB-1593B0952D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Ⅳ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적용 지침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평가 지표들의 상호 연계성과 이해 용이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여러 평가 지표들이 의미를 가지려면 상호 독립적이 아니라 상호 연계되어 보완적인 설명력을 가질 수 있도록 구성되어야 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그래야 전체적인 관점에서 필요한 정보 확보 가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평가치는 직관적으로 이해될 수 있어야 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이해하기 쉬워야 조직원들의 지지를 받을 수 있고 개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혁신 작업에 적용 가능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지속적인 평가 및 수정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보완 평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현재의 지적 자산 수준과 목표의 격차를 파악해야 자사의 강약점을 보완할 수 있으므로 일정 기간마다 지속적으로 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급속한 시장의 변화로 필요한 핵심 지적자산의 내용이 변화되므로 이에 맞추어 측정 지표들을 수정 및 보완하여 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예컨대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민첩성과 관련된 지표로 네트워크로 연결된 외부 기업 수나 전자상거래 매출 비중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창의성과 관련하여 직원들의 제안 건수와 고객 아이디어 활용 건수 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D5A3-6A60-4E3F-806A-49D0CB6446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Ⅰ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 평가의 배경 및 목적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지적 자산 평가의 목적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기업 가치 평가의 기준 제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자산 거래시 또는 회사의 시장 가격 결정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주주들의 투자 지침 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임직원에게 경영의 초점 제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임직원들의 행동 지침으로서의 역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지식경영 활동을 위한 투자의 정당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식경영 가치를 확신하기 위한 척도로서 활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지적 자산의 효율적 관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불필요한 지적 자산의 처분에 따른 수익 증대 또는 지적 자산 관리 비용 절감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29AF-2DD7-440D-9D47-3FF6DA3B9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Ⅱ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분류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5520" y="8377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개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여기서는 암묵지를 포괄하는 지식 또는 지적 자본과 동일하게 파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특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술 자료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자료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타 보유 자료 등 눈에 보이는 형식지 외에 기업 구성 요소인 사람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조직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문화 등이 지닌 무형적인 능력을 포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분류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Skandia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사의 지적 자본 분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263760"/>
            <a:ext cx="1295280" cy="314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분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578400"/>
            <a:ext cx="12952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인적 자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263760"/>
            <a:ext cx="6858000" cy="314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578400"/>
            <a:ext cx="68580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직원들의 임무 수행에 필요한 지식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스킬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노하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혁신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능력의 합계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회사 소유 불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기업의 가치 체계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문화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철학도 포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035600"/>
            <a:ext cx="1295280" cy="7617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구조적 자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035600"/>
            <a:ext cx="685800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직원들의 생산성을 지원하는 하드웨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소프트웨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데이터베이스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조직 구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특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등록 상표 등 조직 능력의 합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소유 및 거래 가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797360"/>
            <a:ext cx="685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고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자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797360"/>
            <a:ext cx="68580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고객 기반과의 관계에서 발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제품 및 서비스에 대한 고객의 가치 인식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고객 니즈 관련 지식 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254560"/>
            <a:ext cx="68580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조직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자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254560"/>
            <a:ext cx="6858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조직 내부뿐만 아니라 공급 및 판매 경로에까지 지식의 흐름을 촉진하는 체계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도구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영업 철학에 대한 회사의 투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체계화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포장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규정화된 조직의 역량과 그러한 능력을 레버리지하는 체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797360"/>
            <a:ext cx="60948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구조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자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3120" y="6049800"/>
            <a:ext cx="677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자료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황진우 역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「지적 자본」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세종서적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, 1998: Life Edvinsson, Michael S. Malone, HaperCollins Publisher, 1997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2959200"/>
            <a:ext cx="131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지적 자본의 분류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BC4C-D1D1-4707-9522-F8A092ED76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Ⅱ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분류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다우케미컬의 지적 자산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 분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1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적 자본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Intellectual Capital) 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가치 창출 가능성이 있는 잠재 지식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구조화된 아이디어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노하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2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적 재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Intellectual Property) : 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소유권이 부여된 이미 개발된 지식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특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3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단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적 자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Intellectual Asset) 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가치를 가지고 있는 개발된 지식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향후 로열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라이센스 수입이 가능한 특허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596960"/>
            <a:ext cx="1295280" cy="314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분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911240"/>
            <a:ext cx="12952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혁신적 자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Inno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pit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1596960"/>
            <a:ext cx="6858000" cy="314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1911240"/>
            <a:ext cx="6858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개선하는 능력과 혁신의 결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신제품과 서비스를 창조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시장에 출시하는 데 사용되는 보호된 상업적 권리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기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</a:rPr>
              <a:t>무형의 자산 및 재능의 형태로 나타나는 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666880"/>
            <a:ext cx="12952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과정적 자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pit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666880"/>
            <a:ext cx="6858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제조나 서비스 제공의 효율성을 높이는 작업 과정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기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 ISO 9000),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직원 프로그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지속적인 가치 창조에 쓰이는 실용적인 지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01600" y="3505320"/>
            <a:ext cx="14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자료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황진우 역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전게서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90000" y="129240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조직적 자본의 분류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BAF0-65E8-4328-9EC8-9EFC676B2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평가 방법의 유형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현재 크게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가지로 구분 가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첫째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기업의 성공 요소를 추출하고 성공 요소의 비재무적 측정 지표를 선정한 다음 각 지표에 대한 측정치를 일일이 만들어 내는 방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웨덴의 금융보험 그룹인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Skandia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사의 지적 자본 네비게이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Navigator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와 캐플란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Robert S. Kaplan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과 노튼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David P. Norton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균형평가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BSC: Balanced Score Card)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에서 적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둘째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지적 자산을 개별적으로 하나하나 평가하는 방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적 자산의 유용성과 경쟁상의 우위성을 기준으로 평가하는 다우케미컬사의 기술요소평가법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Technology Factor Evalu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E3A0-3546-4BCF-90B0-0E4578526E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ko-KR" sz="2200" spc="-1" strike="noStrike">
                <a:solidFill>
                  <a:srgbClr val="ffffff"/>
                </a:solidFill>
                <a:latin typeface="Arial"/>
              </a:rPr>
              <a:t>평가 방법 사례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Skandia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사의 지적 자본 네비게이터 및 균형평가표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지적 자본 네비게이커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(Navigat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개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년간 준비 후에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94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년 내용 연차보고서 附錄에서 처음으로 기술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지적 자본의 가치 창출 능력을 극대화시키는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가지 성공 요소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즉 재무 초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초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과정 초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갱신 및 개발 초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인적 초점을 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125960"/>
            <a:ext cx="3276720" cy="434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재무 초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4952880"/>
            <a:ext cx="114300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재무 초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4952880"/>
            <a:ext cx="114300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과정 초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638680"/>
            <a:ext cx="327672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갱신 및 개발 초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724280"/>
            <a:ext cx="4114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23760" y="527364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지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자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8280" y="4343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역사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4400" y="49528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현재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4400" y="5638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미래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51814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885840" y="457200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5334120"/>
            <a:ext cx="15228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095880" y="5334120"/>
            <a:ext cx="15264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457200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95640" y="4857840"/>
            <a:ext cx="4399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인 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초 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93760" y="60958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활동 환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2720" y="3809880"/>
            <a:ext cx="18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스칸디아 네비게이터의 구조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2080" y="6248520"/>
            <a:ext cx="135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자료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황진우 역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전게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3A10-E829-4FB5-B598-86111E8AB9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재무 초점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Financial Focus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새로운 재무 가치 측정치로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업의 과거 상태를 측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초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: Customer Focus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과 관련된 특유한 종류의 지적 자본을 측정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현재의 회사 활동을 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768320"/>
            <a:ext cx="77724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금자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2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금자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3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소득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4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소득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자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5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프리미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수수료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보험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소득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6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신규사업 활동에서 얻은 프리미엄 소득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7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송장발송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8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시장평균 대비 손실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9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0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부가가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1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투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70400" y="1600200"/>
            <a:ext cx="31161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의 재무 초점 지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543560"/>
            <a:ext cx="77724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시장점유율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2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계정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3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상실 고객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4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전화통화 용이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5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포기 조항 없는 제품 계약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6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등급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7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내사 횟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8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 방문 일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9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계약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10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금관리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1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내부정보기술 고객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12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외부정보기술 고객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13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계약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14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정보기술 해독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70400" y="4375080"/>
            <a:ext cx="31161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의 고객 초점 지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F661-8027-4B9B-A24B-5ECCF936ED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794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Ⅲ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지적 자산의 평가 방법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25520" y="1066320"/>
            <a:ext cx="9099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과정 초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cess Focus)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구조적 자본의 큰 부분을 측정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현재의 회사 활동을 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갱신 및 개발 초점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Renewal &amp; Development Focus)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구조적 자본의 나머지를 측정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미래의 대비와 불필요해진 과거의 포기 정도를 측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784520"/>
            <a:ext cx="7772400" cy="131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자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2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총수입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3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오류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경영수입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4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처리시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대외지급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5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무오류완결 계약수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6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개인용 컴퓨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7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휴대용 컴퓨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8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9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0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직원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총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정보기술 해독률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2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기업성과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품질목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3 2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년 미만의 정보기술재고의 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수입증가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4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용량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70400" y="1616040"/>
            <a:ext cx="31161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의 과정 초점 지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511520"/>
            <a:ext cx="7772400" cy="155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역량개발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2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만족지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#)  3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마케팅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고객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4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마케팅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자산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5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방법 및 기술 정리시간의 비율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6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훈련 시간의 비율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7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개발 시간의 비율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8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연구개발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9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0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훈련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직원수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$)  11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신제품 시판에서 얻은 프리미엄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2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사업개발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관리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     13 40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세 미만 직원의 비율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4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개발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 17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훈련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정보기술비용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(%) 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97160" y="4343400"/>
            <a:ext cx="366084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스칸디아의 갱신 및 개발 초점 지표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2AD1-E30A-4521-BA7D-3AC98F524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01:31:14Z</dcterms:created>
  <dc:creator>윤운락</dc:creator>
  <dc:description/>
  <dc:language>en-US</dc:language>
  <cp:lastModifiedBy>윤운락</cp:lastModifiedBy>
  <cp:lastPrinted>2000-10-30T06:32:13Z</cp:lastPrinted>
  <dcterms:modified xsi:type="dcterms:W3CDTF">2000-10-31T01:48:53Z</dcterms:modified>
  <cp:revision>41</cp:revision>
  <dc:subject/>
  <dc:title>슬라이드 제목 없음</dc:title>
</cp:coreProperties>
</file>