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52360" y="-14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휴먼매직체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722160" y="750600"/>
            <a:ext cx="5354640" cy="370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으뜸체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으뜸체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92280" y="4714560"/>
            <a:ext cx="5470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으뜸체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14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5236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518-FD95-4845-B240-878E16670470}" type="slidenum">
              <a:rPr b="0" i="1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722160" y="750960"/>
            <a:ext cx="5354640" cy="37069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92280" y="4714560"/>
            <a:ext cx="5470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95400" indent="-95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굴림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Access Health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Call-in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메디칼 센터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전화로 증상 문의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간호원인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clinical decision architecture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를 사용하여 집 치료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의사 치료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응급실 치료 등을 판단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지식 창고에는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500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개 이상의 질병에 관한 증상 내용이 수록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이중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300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개 이상의 알고리즘이 매년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8,000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번 사용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marL="95400" indent="-95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굴림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Memorial Sloan-Kettering Cancer Center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암환자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명당 여러 명의 전문가로 구성된 팀에 의해 진료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face-to-face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방법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17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개 팀이 존재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그 가운데 예로서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breast cancer team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은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명의 전문가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종양 전문가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외과 의사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방사선과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신경과 등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으로 구성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marL="95400" indent="-95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굴림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올바른 지식경영 전략 모델 선택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제품의 표준성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표준 제품을 판매하는 기업은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문서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을 채택하라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2" marL="66672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대량 판매 또는 주문 판매를 중심으로 하는 기업이든 간에 판매하는 제품이 표준화된 것이라면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지식경영 전략은 지식의 재사용에 기반한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문서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을 적용해야 함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제품의 성숙도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성숙기에 접어든 제품을 가진 기업은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문서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을 채택하라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2" marL="66672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성숙 제품일 경우에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제품 개발 및 판매 과정이 잘 규정되어 있으며 이미 성문화된 지식을 갖고 있음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2" marL="66672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그러나 첨단 제품일 경우에는 공식화된 문서 형태에서 얻을 수 없는 지식이 많은 관계로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사람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을 통해 혁신을 추구해야 함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1" marL="38088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문제 해결에 필요한 지식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업무 수행에 형식지가 많이 필요한 기업은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문서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을 채택하라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  <a:p>
            <a:pPr lvl="2" marL="666720" indent="-950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그러나 문제 해결에 전문 기술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운영 노하우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산업 통찰력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사업 판단과 같은 암묵지가 중요한 업무에 대해서는 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사람 중심 전략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'</a:t>
            </a:r>
            <a:r>
              <a:rPr b="0" lang="ko-KR" sz="1000" spc="-1" strike="noStrike">
                <a:solidFill>
                  <a:srgbClr val="000000"/>
                </a:solidFill>
                <a:latin typeface="으뜸체"/>
              </a:rPr>
              <a:t>으로 추진해야 함</a:t>
            </a:r>
            <a:endParaRPr b="0" lang="en-US" sz="1000" spc="-1" strike="noStrike">
              <a:solidFill>
                <a:srgbClr val="000000"/>
              </a:solidFill>
              <a:latin typeface="으뜸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9F17-F4DF-4662-8AD3-402E646E8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7800" y="38552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4EA2-6222-4BEA-94CA-AA69C7BAD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428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2F51-B4BB-40A4-8912-4C6D72F7E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140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536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780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140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536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3B99-A8FA-48AA-9ED8-F3E9B45BE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으뜸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7800" y="380880"/>
            <a:ext cx="8794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으뜸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으뜸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EF7B-58C3-4557-8A74-C682356B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8428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7800" y="38552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8428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140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5360" y="13208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780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140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5360" y="3855240"/>
            <a:ext cx="28317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9BAE-A314-4F3E-82BB-8B46AB705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3CFC-7FDD-466D-9971-1BD784DB2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F1BF-0AFD-47A1-AC19-892BBBCBD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7800" y="380880"/>
            <a:ext cx="8794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으뜸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D46D-3750-42FB-8A46-00DDBE4F2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7590-CFAA-424F-AF69-E67BFF1F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4280" y="38552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CFD8-2B14-4DA7-9535-58AB36264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4280" y="1320840"/>
            <a:ext cx="429156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7800" y="3855240"/>
            <a:ext cx="8794800" cy="23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7299-E9DF-4716-A8FC-3D47CCA00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9582120" cy="6470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14440" y="1101600"/>
            <a:ext cx="9391680" cy="856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Font typeface="굴림"/>
              <a:buChar char="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27972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9708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197080" indent="-29196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197080" indent="-29196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314840" y="655272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  <a:ea typeface="으뜸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EC8-35C2-4350-9F97-F202602383DA}" type="slidenum">
              <a:rPr b="0" i="1" lang="en-US" sz="1200" spc="-1" strike="noStrike">
                <a:solidFill>
                  <a:srgbClr val="ffffff"/>
                </a:solidFill>
                <a:latin typeface="Arial"/>
                <a:ea typeface="으뜸체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7800" y="6553080"/>
            <a:ext cx="5867280" cy="2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  <a:ea typeface="으뜸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으뜸체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82240" cy="626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2640" y="2085840"/>
            <a:ext cx="9391680" cy="860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837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으뜸체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으뜸체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6336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매경 지식 주간 세미나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2000</a:t>
            </a: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년 </a:t>
            </a: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11</a:t>
            </a: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월 </a:t>
            </a: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2</a:t>
            </a:r>
            <a:r>
              <a:rPr b="1" lang="ko-KR" sz="1600" spc="-1" strike="noStrike">
                <a:solidFill>
                  <a:srgbClr val="9999ff"/>
                </a:solidFill>
                <a:latin typeface="으뜸체"/>
                <a:ea typeface="으뜸체"/>
              </a:rPr>
              <a:t>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으뜸체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으뜸체"/>
            </a:endParaRPr>
          </a:p>
          <a:p>
            <a:pPr lvl="1" marL="457200" indent="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420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으뜸체"/>
              </a:rPr>
              <a:t>국내 기업의 지식경영 추진 방향</a:t>
            </a:r>
            <a:endParaRPr b="1" lang="en-US" sz="4000" spc="-1" strike="noStrike">
              <a:solidFill>
                <a:srgbClr val="ffff00"/>
              </a:solidFill>
              <a:latin typeface="으뜸체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05040" y="6248520"/>
            <a:ext cx="5105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으뜸체"/>
              </a:rPr>
              <a:t>현대경제연구원 연구위원 이장균</a:t>
            </a:r>
            <a:endParaRPr b="0" lang="en-US" sz="2400" spc="-1" strike="noStrike">
              <a:solidFill>
                <a:srgbClr val="ffffff"/>
              </a:solidFill>
              <a:latin typeface="으뜸체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09880" y="2590920"/>
            <a:ext cx="5029200" cy="3200400"/>
          </a:xfrm>
          <a:custGeom>
            <a:avLst/>
            <a:gdLst>
              <a:gd name="textAreaLeft" fmla="*/ 360 w 5029200"/>
              <a:gd name="textAreaRight" fmla="*/ 5029920 w 50292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9" y="0"/>
                </a:lnTo>
                <a:lnTo>
                  <a:pt x="21600" y="10800"/>
                </a:lnTo>
                <a:lnTo>
                  <a:pt x="17709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91960" indent="-291960">
              <a:lnSpc>
                <a:spcPct val="17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590920"/>
            <a:ext cx="327672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추진 현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추진 작업 평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해외 선진업체의 지식경영 배경과 기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국내 기업의 지식경영 추진 방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전개형 추진 방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목적 지향형 </a:t>
            </a:r>
            <a:r>
              <a:rPr b="0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&lt;</a:t>
            </a: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부록</a:t>
            </a:r>
            <a:r>
              <a:rPr b="0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&gt; </a:t>
            </a: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국내 기업의 지식경영 추진 현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kmlogo(대)" descr=""/>
          <p:cNvPicPr/>
          <p:nvPr/>
        </p:nvPicPr>
        <p:blipFill>
          <a:blip r:embed="rId2"/>
          <a:srcRect l="6078" t="4111" r="8863" b="7455"/>
          <a:stretch/>
        </p:blipFill>
        <p:spPr>
          <a:xfrm>
            <a:off x="990720" y="2590920"/>
            <a:ext cx="3200400" cy="327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추진 전략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1447920"/>
            <a:ext cx="1828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1447920"/>
            <a:ext cx="2819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관리 대상의 지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82880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자동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1828800"/>
            <a:ext cx="28191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경쟁 환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신차 개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236232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엔지니어링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건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36232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프로젝트 설계와 계획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2819520"/>
            <a:ext cx="182880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첨단 기기 제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2819520"/>
            <a:ext cx="28191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시스템 프로젝트 관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연구자의 전문 지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 개발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영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58128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석유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가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58128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암묵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0384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화학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28191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특허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45720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은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457200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최우수 사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50292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광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502920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/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캠페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4864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컨설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548640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컨설팅 수행 지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1447920"/>
            <a:ext cx="3657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략 방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1828800"/>
            <a:ext cx="3657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에의 접근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인식 개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실수 반복 방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362320"/>
            <a:ext cx="3657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효율적인 프로젝트 수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365760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무 지식 포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문가에의 접근성 제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프로젝트 개선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질의에의 응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3581280"/>
            <a:ext cx="3657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원격지 전문가와의 연결 체제 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4038480"/>
            <a:ext cx="3657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영업과 서비스 개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비용 절감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수익 개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4572000"/>
            <a:ext cx="3657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무 프로세스 성과 개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5029200"/>
            <a:ext cx="3657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 사용 증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5486400"/>
            <a:ext cx="3657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사의 지식 기반 확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59436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자료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: T.H. Davenport, D.W. De Long, and M.C. Beers, "Successful Knowledge Management Projects", </a:t>
            </a:r>
            <a:r>
              <a:rPr b="0" i="1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Sloan Management Review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, Winter 1998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1E0E-1140-4F73-BFD7-71529E3CE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62120" y="1366920"/>
            <a:ext cx="3352680" cy="690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문서 중심 전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(codification,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사람 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문서 접근방식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1366920"/>
            <a:ext cx="3352680" cy="690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사람 중심 전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(personalization,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사람 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사람 접근방식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0448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식의 재사용 목적으로 정보 시스템 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65436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대규모 투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재사용 지식과 사람을 연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30448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암묵지의 공유 목적으로 전문가와의 네트워크 구축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365436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소규모 투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암묵지의 교환과 의사소통을 촉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264200"/>
            <a:ext cx="33526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데이터베이스의 활용도와 기여도로 보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19920" y="4264200"/>
            <a:ext cx="33526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다른 사람과의 지식 공유 실적으로 보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31212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경영 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73068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정보 기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434016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보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25636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례 기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4876920"/>
            <a:ext cx="3352680" cy="11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Andersen Consul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Ernst &amp; Yo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Access Heal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Dell 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876920"/>
            <a:ext cx="3352680" cy="11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Mckins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B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Memorial Sloan-Kettering Cancer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Hewlett-Packa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01" idx="3"/>
            <a:endCxn id="307" idx="1"/>
          </p:cNvCxnSpPr>
          <p:nvPr/>
        </p:nvCxnSpPr>
        <p:spPr>
          <a:xfrm>
            <a:off x="4114440" y="331128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4" name=""/>
          <p:cNvCxnSpPr>
            <a:stCxn id="307" idx="3"/>
            <a:endCxn id="303" idx="1"/>
          </p:cNvCxnSpPr>
          <p:nvPr/>
        </p:nvCxnSpPr>
        <p:spPr>
          <a:xfrm>
            <a:off x="5790960" y="331128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5" name=""/>
          <p:cNvCxnSpPr>
            <a:stCxn id="302" idx="3"/>
            <a:endCxn id="308" idx="1"/>
          </p:cNvCxnSpPr>
          <p:nvPr/>
        </p:nvCxnSpPr>
        <p:spPr>
          <a:xfrm>
            <a:off x="4114440" y="392076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6" name=""/>
          <p:cNvCxnSpPr>
            <a:stCxn id="308" idx="3"/>
            <a:endCxn id="304" idx="1"/>
          </p:cNvCxnSpPr>
          <p:nvPr/>
        </p:nvCxnSpPr>
        <p:spPr>
          <a:xfrm>
            <a:off x="5790960" y="392076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7" name=""/>
          <p:cNvCxnSpPr>
            <a:stCxn id="305" idx="3"/>
            <a:endCxn id="309" idx="1"/>
          </p:cNvCxnSpPr>
          <p:nvPr/>
        </p:nvCxnSpPr>
        <p:spPr>
          <a:xfrm>
            <a:off x="4114440" y="453024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8" name=""/>
          <p:cNvCxnSpPr>
            <a:stCxn id="309" idx="3"/>
            <a:endCxn id="306" idx="1"/>
          </p:cNvCxnSpPr>
          <p:nvPr/>
        </p:nvCxnSpPr>
        <p:spPr>
          <a:xfrm>
            <a:off x="5790960" y="453024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19" name=""/>
          <p:cNvCxnSpPr>
            <a:stCxn id="311" idx="3"/>
            <a:endCxn id="310" idx="1"/>
          </p:cNvCxnSpPr>
          <p:nvPr/>
        </p:nvCxnSpPr>
        <p:spPr>
          <a:xfrm>
            <a:off x="4114440" y="544644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20" name=""/>
          <p:cNvCxnSpPr>
            <a:stCxn id="310" idx="3"/>
            <a:endCxn id="312" idx="1"/>
          </p:cNvCxnSpPr>
          <p:nvPr/>
        </p:nvCxnSpPr>
        <p:spPr>
          <a:xfrm>
            <a:off x="5790960" y="544644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762120" y="2227320"/>
            <a:ext cx="335268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성문화된 지식의 재사용 목적으로 고품질</a:t>
            </a: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고신뢰</a:t>
            </a: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신속 처리가 가능한 정보 시스템을 제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2227320"/>
            <a:ext cx="335268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전문가 네트워크 구축을 통해 고차원의 전략적 문제에 관한 창조적이고 분석적인 조언을 제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408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경쟁 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1" idx="3"/>
            <a:endCxn id="323" idx="1"/>
          </p:cNvCxnSpPr>
          <p:nvPr/>
        </p:nvCxnSpPr>
        <p:spPr>
          <a:xfrm>
            <a:off x="4114440" y="259848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cxnSp>
        <p:nvCxnSpPr>
          <p:cNvPr id="325" name=""/>
          <p:cNvCxnSpPr>
            <a:stCxn id="323" idx="3"/>
            <a:endCxn id="322" idx="1"/>
          </p:cNvCxnSpPr>
          <p:nvPr/>
        </p:nvCxnSpPr>
        <p:spPr>
          <a:xfrm>
            <a:off x="5790960" y="2598480"/>
            <a:ext cx="229320" cy="1080"/>
          </a:xfrm>
          <a:prstGeom prst="straightConnector1">
            <a:avLst/>
          </a:prstGeom>
          <a:ln w="12600">
            <a:solidFill>
              <a:srgbClr val="ffff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868320" y="6004800"/>
            <a:ext cx="66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자료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: M.T.Hansen, N.Nohria, &amp; T.Tierney, "What's Your Strategy for Managing Knowledge?"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      </a:t>
            </a:r>
            <a:r>
              <a:rPr b="0" i="1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Harvard Business Review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March-April 1999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추진 전략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3A4F-CF2E-4306-8EDE-DBCD73C60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조직 구조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자사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내부 기업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internal enterprise)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화 지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의 구축 움직임에 조직 구조의 변화가 이슈화되고 있지 않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은 지식 정보화 시대에 적합한 경영 체제의 구축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 시대의 조직 역량 강화에는 기존의 운영 효율성보다 외부 효과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적응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상호 의존성이 강조되므로 새로운 원칙에 기초한 조직 구조의 재설계도 필요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일찍이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층 구조의 상명하달식 혹은 상부로부터의 통제 방식 체제에서 수평적 커뮤니케이션을 확대할 수 있는 탈피하고자 하는 움직임이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TFT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팀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다기능팀 등의 조직 형태에서 나타나고 있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현재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네트워크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임기 응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Adhocracy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식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격자형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원형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변형 가능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무경계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카멜레온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가상 조직 등 진보적 기업들이 다양한 구조를 적용하고 있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내부 기업은 신뢰를 바탕으로 통제보다는 권한 위임을 통한 자율 책임 조직을 가리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정된 조직 구조가 아니고 결과에 따른 보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가의 자율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성취를 위한 자극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신속한 응답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중심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창의력 등을 중심으로 한 조직 구조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의 구축 추진을 통해 기존 조직 구조의 변화도 도모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7AC6-6C24-4841-9FE2-58D47829B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3880" y="3581280"/>
            <a:ext cx="11494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구     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73360" y="3581280"/>
            <a:ext cx="28954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수직적인 전통적 관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8840" y="3581280"/>
            <a:ext cx="28958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상호의존적인 지식 네트워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30360" y="3886200"/>
            <a:ext cx="11430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관계 구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73360" y="3886200"/>
            <a:ext cx="28954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의 주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8840" y="3886200"/>
            <a:ext cx="2895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상호 의존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0360" y="4191120"/>
            <a:ext cx="11430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참여 기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73360" y="4191120"/>
            <a:ext cx="28954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에 대한 공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8840" y="4191120"/>
            <a:ext cx="289584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학습과 지식 공유에 대한 의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30360" y="4495680"/>
            <a:ext cx="11430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기본 목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73360" y="4495680"/>
            <a:ext cx="28954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의 이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8840" y="4495680"/>
            <a:ext cx="2895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와 공급자 상호 이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30360" y="4800600"/>
            <a:ext cx="11430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초     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73360" y="4800600"/>
            <a:ext cx="28954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특정 제품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8840" y="4800600"/>
            <a:ext cx="2895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학습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learn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30360" y="5105520"/>
            <a:ext cx="11430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보     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73360" y="5105520"/>
            <a:ext cx="289548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가 공급자에 지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8840" y="5105520"/>
            <a:ext cx="289584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공유로 상호 성과 향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30360" y="5410080"/>
            <a:ext cx="11430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최종 결과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73360" y="5410080"/>
            <a:ext cx="28954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의 성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8840" y="5410080"/>
            <a:ext cx="2895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상호 학습을 통한 지식 공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30360" y="5715000"/>
            <a:ext cx="11430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신뢰 형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73360" y="5715000"/>
            <a:ext cx="28954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능력에 대한 신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68840" y="5715000"/>
            <a:ext cx="28958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비전과 리더십의 공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17400" y="3200400"/>
            <a:ext cx="3354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&lt;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매자와 공급자간 지식 네트워크를 통한 상호 의존적 관계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조직 구조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업간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업 공동체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community)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형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의 경쟁 원천 확보 범위는 조직내에서 조직간으로 확대되고 있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Virtual Enterprise, Extended Enterpr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CALS, CE, SCM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협력적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e-market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92AF-DE5E-4962-AC78-4110C3CE7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조직 구조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218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조직간 협력 공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직들이 공동으로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zero-base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에서  지식을  공유하고 새로운 협력 체제를 구축할 수 있는 협력 공간 창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노나카 교수의 “바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Ba)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44520" indent="-28260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사 경험 → 협력 공간 이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협력 공간 경험 →  자사 이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신뢰를 기반으로 공동 교육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업무 프로세스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보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위험의 공동 배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성과 측정 기법의 공식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 공유 기반 구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직간 업무 연계 방법의 변경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존의 경쟁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폐쇄적 프로세스 → 협력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방적 프로세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886200"/>
            <a:ext cx="3657600" cy="2286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3886200"/>
            <a:ext cx="3657600" cy="22860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886200" y="3873600"/>
            <a:ext cx="2133720" cy="2298240"/>
            <a:chOff x="3886200" y="3873600"/>
            <a:chExt cx="2133720" cy="2298240"/>
          </a:xfrm>
        </p:grpSpPr>
        <p:sp>
          <p:nvSpPr>
            <p:cNvPr id="362" name=""/>
            <p:cNvSpPr/>
            <p:nvPr/>
          </p:nvSpPr>
          <p:spPr>
            <a:xfrm>
              <a:off x="3943440" y="3873600"/>
              <a:ext cx="2041560" cy="1023840"/>
            </a:xfrm>
            <a:custGeom>
              <a:avLst/>
              <a:gdLst/>
              <a:ahLst/>
              <a:rect l="l" t="t" r="r" b="b"/>
              <a:pathLst>
                <a:path w="626" h="517">
                  <a:moveTo>
                    <a:pt x="318" y="0"/>
                  </a:moveTo>
                  <a:lnTo>
                    <a:pt x="300" y="11"/>
                  </a:lnTo>
                  <a:lnTo>
                    <a:pt x="280" y="25"/>
                  </a:lnTo>
                  <a:lnTo>
                    <a:pt x="258" y="41"/>
                  </a:lnTo>
                  <a:lnTo>
                    <a:pt x="239" y="55"/>
                  </a:lnTo>
                  <a:lnTo>
                    <a:pt x="220" y="72"/>
                  </a:lnTo>
                  <a:lnTo>
                    <a:pt x="205" y="86"/>
                  </a:lnTo>
                  <a:lnTo>
                    <a:pt x="186" y="104"/>
                  </a:lnTo>
                  <a:lnTo>
                    <a:pt x="169" y="120"/>
                  </a:lnTo>
                  <a:lnTo>
                    <a:pt x="149" y="143"/>
                  </a:lnTo>
                  <a:lnTo>
                    <a:pt x="131" y="165"/>
                  </a:lnTo>
                  <a:lnTo>
                    <a:pt x="115" y="184"/>
                  </a:lnTo>
                  <a:lnTo>
                    <a:pt x="96" y="210"/>
                  </a:lnTo>
                  <a:lnTo>
                    <a:pt x="81" y="232"/>
                  </a:lnTo>
                  <a:lnTo>
                    <a:pt x="68" y="255"/>
                  </a:lnTo>
                  <a:lnTo>
                    <a:pt x="54" y="280"/>
                  </a:lnTo>
                  <a:lnTo>
                    <a:pt x="42" y="304"/>
                  </a:lnTo>
                  <a:lnTo>
                    <a:pt x="29" y="335"/>
                  </a:lnTo>
                  <a:lnTo>
                    <a:pt x="19" y="365"/>
                  </a:lnTo>
                  <a:lnTo>
                    <a:pt x="10" y="394"/>
                  </a:lnTo>
                  <a:lnTo>
                    <a:pt x="5" y="417"/>
                  </a:lnTo>
                  <a:lnTo>
                    <a:pt x="0" y="437"/>
                  </a:lnTo>
                  <a:lnTo>
                    <a:pt x="22" y="451"/>
                  </a:lnTo>
                  <a:lnTo>
                    <a:pt x="49" y="462"/>
                  </a:lnTo>
                  <a:lnTo>
                    <a:pt x="80" y="474"/>
                  </a:lnTo>
                  <a:lnTo>
                    <a:pt x="114" y="485"/>
                  </a:lnTo>
                  <a:lnTo>
                    <a:pt x="153" y="497"/>
                  </a:lnTo>
                  <a:lnTo>
                    <a:pt x="191" y="505"/>
                  </a:lnTo>
                  <a:lnTo>
                    <a:pt x="221" y="510"/>
                  </a:lnTo>
                  <a:lnTo>
                    <a:pt x="253" y="514"/>
                  </a:lnTo>
                  <a:lnTo>
                    <a:pt x="285" y="516"/>
                  </a:lnTo>
                  <a:lnTo>
                    <a:pt x="313" y="517"/>
                  </a:lnTo>
                  <a:lnTo>
                    <a:pt x="349" y="516"/>
                  </a:lnTo>
                  <a:lnTo>
                    <a:pt x="386" y="511"/>
                  </a:lnTo>
                  <a:lnTo>
                    <a:pt x="427" y="506"/>
                  </a:lnTo>
                  <a:lnTo>
                    <a:pt x="462" y="499"/>
                  </a:lnTo>
                  <a:lnTo>
                    <a:pt x="491" y="492"/>
                  </a:lnTo>
                  <a:lnTo>
                    <a:pt x="522" y="482"/>
                  </a:lnTo>
                  <a:lnTo>
                    <a:pt x="544" y="473"/>
                  </a:lnTo>
                  <a:lnTo>
                    <a:pt x="568" y="464"/>
                  </a:lnTo>
                  <a:lnTo>
                    <a:pt x="590" y="455"/>
                  </a:lnTo>
                  <a:lnTo>
                    <a:pt x="614" y="443"/>
                  </a:lnTo>
                  <a:lnTo>
                    <a:pt x="626" y="436"/>
                  </a:lnTo>
                  <a:lnTo>
                    <a:pt x="622" y="411"/>
                  </a:lnTo>
                  <a:lnTo>
                    <a:pt x="615" y="386"/>
                  </a:lnTo>
                  <a:lnTo>
                    <a:pt x="607" y="360"/>
                  </a:lnTo>
                  <a:lnTo>
                    <a:pt x="594" y="326"/>
                  </a:lnTo>
                  <a:lnTo>
                    <a:pt x="577" y="291"/>
                  </a:lnTo>
                  <a:lnTo>
                    <a:pt x="557" y="253"/>
                  </a:lnTo>
                  <a:lnTo>
                    <a:pt x="540" y="226"/>
                  </a:lnTo>
                  <a:lnTo>
                    <a:pt x="522" y="197"/>
                  </a:lnTo>
                  <a:lnTo>
                    <a:pt x="507" y="175"/>
                  </a:lnTo>
                  <a:lnTo>
                    <a:pt x="484" y="146"/>
                  </a:lnTo>
                  <a:lnTo>
                    <a:pt x="466" y="124"/>
                  </a:lnTo>
                  <a:lnTo>
                    <a:pt x="446" y="104"/>
                  </a:lnTo>
                  <a:lnTo>
                    <a:pt x="419" y="78"/>
                  </a:lnTo>
                  <a:lnTo>
                    <a:pt x="400" y="61"/>
                  </a:lnTo>
                  <a:lnTo>
                    <a:pt x="377" y="42"/>
                  </a:lnTo>
                  <a:lnTo>
                    <a:pt x="348" y="2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86200" y="4728960"/>
              <a:ext cx="2133720" cy="1442880"/>
            </a:xfrm>
            <a:custGeom>
              <a:avLst/>
              <a:gdLst/>
              <a:ahLst/>
              <a:rect l="l" t="t" r="r" b="b"/>
              <a:pathLst>
                <a:path w="654" h="728">
                  <a:moveTo>
                    <a:pt x="15" y="1"/>
                  </a:moveTo>
                  <a:lnTo>
                    <a:pt x="33" y="13"/>
                  </a:lnTo>
                  <a:lnTo>
                    <a:pt x="53" y="22"/>
                  </a:lnTo>
                  <a:lnTo>
                    <a:pt x="71" y="29"/>
                  </a:lnTo>
                  <a:lnTo>
                    <a:pt x="99" y="40"/>
                  </a:lnTo>
                  <a:lnTo>
                    <a:pt x="123" y="47"/>
                  </a:lnTo>
                  <a:lnTo>
                    <a:pt x="149" y="55"/>
                  </a:lnTo>
                  <a:lnTo>
                    <a:pt x="177" y="61"/>
                  </a:lnTo>
                  <a:lnTo>
                    <a:pt x="205" y="68"/>
                  </a:lnTo>
                  <a:lnTo>
                    <a:pt x="235" y="73"/>
                  </a:lnTo>
                  <a:lnTo>
                    <a:pt x="270" y="77"/>
                  </a:lnTo>
                  <a:lnTo>
                    <a:pt x="304" y="80"/>
                  </a:lnTo>
                  <a:lnTo>
                    <a:pt x="335" y="80"/>
                  </a:lnTo>
                  <a:lnTo>
                    <a:pt x="373" y="80"/>
                  </a:lnTo>
                  <a:lnTo>
                    <a:pt x="415" y="73"/>
                  </a:lnTo>
                  <a:lnTo>
                    <a:pt x="447" y="69"/>
                  </a:lnTo>
                  <a:lnTo>
                    <a:pt x="470" y="64"/>
                  </a:lnTo>
                  <a:lnTo>
                    <a:pt x="499" y="57"/>
                  </a:lnTo>
                  <a:lnTo>
                    <a:pt x="522" y="50"/>
                  </a:lnTo>
                  <a:lnTo>
                    <a:pt x="544" y="42"/>
                  </a:lnTo>
                  <a:lnTo>
                    <a:pt x="571" y="31"/>
                  </a:lnTo>
                  <a:lnTo>
                    <a:pt x="591" y="23"/>
                  </a:lnTo>
                  <a:lnTo>
                    <a:pt x="610" y="14"/>
                  </a:lnTo>
                  <a:lnTo>
                    <a:pt x="626" y="8"/>
                  </a:lnTo>
                  <a:lnTo>
                    <a:pt x="638" y="0"/>
                  </a:lnTo>
                  <a:lnTo>
                    <a:pt x="643" y="20"/>
                  </a:lnTo>
                  <a:lnTo>
                    <a:pt x="646" y="40"/>
                  </a:lnTo>
                  <a:lnTo>
                    <a:pt x="647" y="57"/>
                  </a:lnTo>
                  <a:lnTo>
                    <a:pt x="651" y="89"/>
                  </a:lnTo>
                  <a:lnTo>
                    <a:pt x="652" y="112"/>
                  </a:lnTo>
                  <a:lnTo>
                    <a:pt x="654" y="134"/>
                  </a:lnTo>
                  <a:lnTo>
                    <a:pt x="654" y="153"/>
                  </a:lnTo>
                  <a:lnTo>
                    <a:pt x="651" y="184"/>
                  </a:lnTo>
                  <a:lnTo>
                    <a:pt x="650" y="207"/>
                  </a:lnTo>
                  <a:lnTo>
                    <a:pt x="647" y="234"/>
                  </a:lnTo>
                  <a:lnTo>
                    <a:pt x="642" y="265"/>
                  </a:lnTo>
                  <a:lnTo>
                    <a:pt x="638" y="291"/>
                  </a:lnTo>
                  <a:lnTo>
                    <a:pt x="628" y="329"/>
                  </a:lnTo>
                  <a:lnTo>
                    <a:pt x="619" y="359"/>
                  </a:lnTo>
                  <a:lnTo>
                    <a:pt x="608" y="387"/>
                  </a:lnTo>
                  <a:lnTo>
                    <a:pt x="598" y="412"/>
                  </a:lnTo>
                  <a:lnTo>
                    <a:pt x="584" y="442"/>
                  </a:lnTo>
                  <a:lnTo>
                    <a:pt x="570" y="470"/>
                  </a:lnTo>
                  <a:lnTo>
                    <a:pt x="556" y="493"/>
                  </a:lnTo>
                  <a:lnTo>
                    <a:pt x="540" y="517"/>
                  </a:lnTo>
                  <a:lnTo>
                    <a:pt x="521" y="546"/>
                  </a:lnTo>
                  <a:lnTo>
                    <a:pt x="499" y="576"/>
                  </a:lnTo>
                  <a:lnTo>
                    <a:pt x="478" y="599"/>
                  </a:lnTo>
                  <a:lnTo>
                    <a:pt x="455" y="624"/>
                  </a:lnTo>
                  <a:lnTo>
                    <a:pt x="429" y="647"/>
                  </a:lnTo>
                  <a:lnTo>
                    <a:pt x="402" y="669"/>
                  </a:lnTo>
                  <a:lnTo>
                    <a:pt x="382" y="686"/>
                  </a:lnTo>
                  <a:lnTo>
                    <a:pt x="363" y="701"/>
                  </a:lnTo>
                  <a:lnTo>
                    <a:pt x="340" y="715"/>
                  </a:lnTo>
                  <a:lnTo>
                    <a:pt x="322" y="728"/>
                  </a:lnTo>
                  <a:lnTo>
                    <a:pt x="303" y="716"/>
                  </a:lnTo>
                  <a:lnTo>
                    <a:pt x="286" y="705"/>
                  </a:lnTo>
                  <a:lnTo>
                    <a:pt x="262" y="687"/>
                  </a:lnTo>
                  <a:lnTo>
                    <a:pt x="243" y="672"/>
                  </a:lnTo>
                  <a:lnTo>
                    <a:pt x="223" y="655"/>
                  </a:lnTo>
                  <a:lnTo>
                    <a:pt x="205" y="638"/>
                  </a:lnTo>
                  <a:lnTo>
                    <a:pt x="183" y="617"/>
                  </a:lnTo>
                  <a:lnTo>
                    <a:pt x="163" y="592"/>
                  </a:lnTo>
                  <a:lnTo>
                    <a:pt x="136" y="558"/>
                  </a:lnTo>
                  <a:lnTo>
                    <a:pt x="117" y="532"/>
                  </a:lnTo>
                  <a:lnTo>
                    <a:pt x="101" y="509"/>
                  </a:lnTo>
                  <a:lnTo>
                    <a:pt x="84" y="479"/>
                  </a:lnTo>
                  <a:lnTo>
                    <a:pt x="71" y="455"/>
                  </a:lnTo>
                  <a:lnTo>
                    <a:pt x="57" y="424"/>
                  </a:lnTo>
                  <a:lnTo>
                    <a:pt x="45" y="396"/>
                  </a:lnTo>
                  <a:lnTo>
                    <a:pt x="36" y="372"/>
                  </a:lnTo>
                  <a:lnTo>
                    <a:pt x="25" y="335"/>
                  </a:lnTo>
                  <a:lnTo>
                    <a:pt x="17" y="309"/>
                  </a:lnTo>
                  <a:lnTo>
                    <a:pt x="10" y="274"/>
                  </a:lnTo>
                  <a:lnTo>
                    <a:pt x="6" y="248"/>
                  </a:lnTo>
                  <a:lnTo>
                    <a:pt x="1" y="207"/>
                  </a:lnTo>
                  <a:lnTo>
                    <a:pt x="0" y="176"/>
                  </a:lnTo>
                  <a:lnTo>
                    <a:pt x="0" y="140"/>
                  </a:lnTo>
                  <a:lnTo>
                    <a:pt x="1" y="103"/>
                  </a:lnTo>
                  <a:lnTo>
                    <a:pt x="3" y="74"/>
                  </a:lnTo>
                  <a:lnTo>
                    <a:pt x="7" y="43"/>
                  </a:lnTo>
                  <a:lnTo>
                    <a:pt x="11" y="19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114800" y="4800600"/>
            <a:ext cx="876240" cy="838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프로세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33840" y="4114800"/>
            <a:ext cx="876240" cy="838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4800600"/>
            <a:ext cx="876600" cy="838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경영자원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rot="3292800">
            <a:off x="3714840" y="4182840"/>
            <a:ext cx="528480" cy="79560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8307200">
            <a:off x="5695920" y="4182840"/>
            <a:ext cx="528480" cy="79524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 rot="5091000">
            <a:off x="3763800" y="5292000"/>
            <a:ext cx="538200" cy="71928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4545000"/>
            <a:ext cx="914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협력업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48769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고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37339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자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5257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학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연구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4495680"/>
            <a:ext cx="76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경험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전달 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24480" y="53341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경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전달 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조직간 협력 공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 rot="16509000">
            <a:off x="5667840" y="5292000"/>
            <a:ext cx="538200" cy="718920"/>
          </a:xfrm>
          <a:custGeom>
            <a:avLst/>
            <a:gdLst/>
            <a:ahLst/>
            <a:rect l="l" t="t" r="r" b="b"/>
            <a:pathLst>
              <a:path w="1645" h="823">
                <a:moveTo>
                  <a:pt x="0" y="6"/>
                </a:moveTo>
                <a:lnTo>
                  <a:pt x="90" y="0"/>
                </a:lnTo>
                <a:lnTo>
                  <a:pt x="135" y="0"/>
                </a:lnTo>
                <a:lnTo>
                  <a:pt x="189" y="0"/>
                </a:lnTo>
                <a:lnTo>
                  <a:pt x="240" y="3"/>
                </a:lnTo>
                <a:lnTo>
                  <a:pt x="291" y="6"/>
                </a:lnTo>
                <a:lnTo>
                  <a:pt x="341" y="12"/>
                </a:lnTo>
                <a:lnTo>
                  <a:pt x="386" y="21"/>
                </a:lnTo>
                <a:lnTo>
                  <a:pt x="436" y="30"/>
                </a:lnTo>
                <a:lnTo>
                  <a:pt x="496" y="45"/>
                </a:lnTo>
                <a:lnTo>
                  <a:pt x="550" y="63"/>
                </a:lnTo>
                <a:lnTo>
                  <a:pt x="601" y="78"/>
                </a:lnTo>
                <a:lnTo>
                  <a:pt x="658" y="99"/>
                </a:lnTo>
                <a:lnTo>
                  <a:pt x="712" y="123"/>
                </a:lnTo>
                <a:lnTo>
                  <a:pt x="766" y="147"/>
                </a:lnTo>
                <a:lnTo>
                  <a:pt x="811" y="170"/>
                </a:lnTo>
                <a:lnTo>
                  <a:pt x="862" y="194"/>
                </a:lnTo>
                <a:lnTo>
                  <a:pt x="905" y="217"/>
                </a:lnTo>
                <a:lnTo>
                  <a:pt x="953" y="244"/>
                </a:lnTo>
                <a:lnTo>
                  <a:pt x="1001" y="271"/>
                </a:lnTo>
                <a:lnTo>
                  <a:pt x="1049" y="304"/>
                </a:lnTo>
                <a:lnTo>
                  <a:pt x="1091" y="331"/>
                </a:lnTo>
                <a:lnTo>
                  <a:pt x="1136" y="367"/>
                </a:lnTo>
                <a:lnTo>
                  <a:pt x="1178" y="400"/>
                </a:lnTo>
                <a:lnTo>
                  <a:pt x="1217" y="433"/>
                </a:lnTo>
                <a:lnTo>
                  <a:pt x="1249" y="469"/>
                </a:lnTo>
                <a:lnTo>
                  <a:pt x="1276" y="500"/>
                </a:lnTo>
                <a:lnTo>
                  <a:pt x="1297" y="533"/>
                </a:lnTo>
                <a:lnTo>
                  <a:pt x="1645" y="489"/>
                </a:lnTo>
                <a:lnTo>
                  <a:pt x="1596" y="512"/>
                </a:lnTo>
                <a:lnTo>
                  <a:pt x="1539" y="536"/>
                </a:lnTo>
                <a:lnTo>
                  <a:pt x="1494" y="557"/>
                </a:lnTo>
                <a:lnTo>
                  <a:pt x="1460" y="573"/>
                </a:lnTo>
                <a:lnTo>
                  <a:pt x="1423" y="593"/>
                </a:lnTo>
                <a:lnTo>
                  <a:pt x="1393" y="611"/>
                </a:lnTo>
                <a:lnTo>
                  <a:pt x="1364" y="630"/>
                </a:lnTo>
                <a:lnTo>
                  <a:pt x="1335" y="653"/>
                </a:lnTo>
                <a:lnTo>
                  <a:pt x="1307" y="676"/>
                </a:lnTo>
                <a:lnTo>
                  <a:pt x="1273" y="705"/>
                </a:lnTo>
                <a:lnTo>
                  <a:pt x="1240" y="736"/>
                </a:lnTo>
                <a:lnTo>
                  <a:pt x="1211" y="762"/>
                </a:lnTo>
                <a:lnTo>
                  <a:pt x="1178" y="796"/>
                </a:lnTo>
                <a:lnTo>
                  <a:pt x="1151" y="823"/>
                </a:lnTo>
                <a:lnTo>
                  <a:pt x="1124" y="811"/>
                </a:lnTo>
                <a:lnTo>
                  <a:pt x="1097" y="796"/>
                </a:lnTo>
                <a:lnTo>
                  <a:pt x="1068" y="783"/>
                </a:lnTo>
                <a:lnTo>
                  <a:pt x="1034" y="769"/>
                </a:lnTo>
                <a:lnTo>
                  <a:pt x="999" y="755"/>
                </a:lnTo>
                <a:lnTo>
                  <a:pt x="967" y="744"/>
                </a:lnTo>
                <a:lnTo>
                  <a:pt x="936" y="735"/>
                </a:lnTo>
                <a:lnTo>
                  <a:pt x="901" y="724"/>
                </a:lnTo>
                <a:lnTo>
                  <a:pt x="864" y="715"/>
                </a:lnTo>
                <a:lnTo>
                  <a:pt x="826" y="705"/>
                </a:lnTo>
                <a:lnTo>
                  <a:pt x="791" y="696"/>
                </a:lnTo>
                <a:lnTo>
                  <a:pt x="757" y="687"/>
                </a:lnTo>
                <a:lnTo>
                  <a:pt x="720" y="681"/>
                </a:lnTo>
                <a:lnTo>
                  <a:pt x="685" y="673"/>
                </a:lnTo>
                <a:lnTo>
                  <a:pt x="652" y="666"/>
                </a:lnTo>
                <a:lnTo>
                  <a:pt x="613" y="658"/>
                </a:lnTo>
                <a:lnTo>
                  <a:pt x="560" y="652"/>
                </a:lnTo>
                <a:lnTo>
                  <a:pt x="920" y="590"/>
                </a:lnTo>
                <a:lnTo>
                  <a:pt x="896" y="542"/>
                </a:lnTo>
                <a:lnTo>
                  <a:pt x="868" y="506"/>
                </a:lnTo>
                <a:lnTo>
                  <a:pt x="817" y="439"/>
                </a:lnTo>
                <a:lnTo>
                  <a:pt x="787" y="409"/>
                </a:lnTo>
                <a:lnTo>
                  <a:pt x="757" y="379"/>
                </a:lnTo>
                <a:lnTo>
                  <a:pt x="703" y="328"/>
                </a:lnTo>
                <a:lnTo>
                  <a:pt x="670" y="298"/>
                </a:lnTo>
                <a:lnTo>
                  <a:pt x="631" y="262"/>
                </a:lnTo>
                <a:lnTo>
                  <a:pt x="595" y="235"/>
                </a:lnTo>
                <a:lnTo>
                  <a:pt x="565" y="211"/>
                </a:lnTo>
                <a:lnTo>
                  <a:pt x="535" y="188"/>
                </a:lnTo>
                <a:lnTo>
                  <a:pt x="499" y="164"/>
                </a:lnTo>
                <a:lnTo>
                  <a:pt x="460" y="141"/>
                </a:lnTo>
                <a:lnTo>
                  <a:pt x="421" y="123"/>
                </a:lnTo>
                <a:lnTo>
                  <a:pt x="383" y="102"/>
                </a:lnTo>
                <a:lnTo>
                  <a:pt x="335" y="84"/>
                </a:lnTo>
                <a:lnTo>
                  <a:pt x="291" y="69"/>
                </a:lnTo>
                <a:lnTo>
                  <a:pt x="240" y="57"/>
                </a:lnTo>
                <a:lnTo>
                  <a:pt x="192" y="45"/>
                </a:lnTo>
                <a:lnTo>
                  <a:pt x="141" y="33"/>
                </a:lnTo>
                <a:lnTo>
                  <a:pt x="87" y="24"/>
                </a:lnTo>
                <a:lnTo>
                  <a:pt x="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4495680"/>
            <a:ext cx="761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식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경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전달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53341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식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경험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전달 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495680"/>
            <a:ext cx="60984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기능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181480"/>
            <a:ext cx="60984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기능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382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37339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외부조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426708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경쟁업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60C5-B4BA-42A7-90F0-E85859982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문화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제품 특성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조직 문화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개인지를 조직지화할 수 있는 지식 문화 구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모든 정보가 공통적인 정의를 따를 필요가 없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오히려 유연성과 무질서한 면이 요구되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가 정말 유용하다면 정보 욕구는 무한히 증가함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그러므로 개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위 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능 부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업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의 자율적이고 능동적인 대응을 강조하는 조직 구축을 위해서는 이들만의 자유스러운 지식 교환을 활성화할 수 있는 조직 문화를 창조하고 제도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적 지원이 뒷받침되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HP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는 분권화 조직 구조의 특성에 맞추어 사업 부문별 지식경영 체제를 구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제품 특성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제품의 표준화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성숙화 정도에 따라 관리할 지식 관리의 초점 변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표준 또는 성숙 제품일 경우에는 업무 기술 및 지식이 거의 반복적으로 재사용되므로 형식지가 암묵지보다 상대적으로 중요하게 관리되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반면에 표준화 정도가 낮거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신제품 및 첨단 제품일 경우에는 구성원에게 체화된 암묵지를 통해 혁신을 추구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CB4E-FA4F-4CD2-A3AE-1C02CB49B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유형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160020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구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1600200"/>
            <a:ext cx="2286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식 관리 방법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1600200"/>
            <a:ext cx="2286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적 자본 방법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1600200"/>
            <a:ext cx="2286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지식 창조 방법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1905120"/>
            <a:ext cx="11430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목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1905120"/>
            <a:ext cx="22860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보유 지식의 효율적 관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1905120"/>
            <a:ext cx="22860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적 자본 가치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정확한 측정 및 평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1905120"/>
            <a:ext cx="22860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창조의 원활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2514600"/>
            <a:ext cx="1143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핵심 내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1460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기업내 지식의 공유 및 활용 촉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251460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적 자본의 측정 및 가치 증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251460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암묵지의 교류 및 조직지로의 전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895480"/>
            <a:ext cx="1143000" cy="38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주요 구현 수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895480"/>
            <a:ext cx="2286000" cy="38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관리 시스템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K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2895480"/>
            <a:ext cx="2286000" cy="38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적 자본 평가 도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0" y="2895480"/>
            <a:ext cx="2286000" cy="38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창조 프로세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3276720"/>
            <a:ext cx="1143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실행 방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2767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상의하달식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top-dow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32767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상의하달식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top-dow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32767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쌍방향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middle-up-dow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657600"/>
            <a:ext cx="1143000" cy="121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실행을 위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전제 조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0" y="3657600"/>
            <a:ext cx="2286000" cy="121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충실한 정보 인프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측정 및 보상시스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 문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3657600"/>
            <a:ext cx="2286000" cy="121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적 자본 분류 작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측정 모델 개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3657600"/>
            <a:ext cx="2286000" cy="121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비전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리더십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창조형 조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창조 매개자로서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중간 관리자의 역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43000" y="4876920"/>
            <a:ext cx="1143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주요 적용 사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48769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부크먼의 지식공유 시스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8769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스칸디아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다우케미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0" y="4876920"/>
            <a:ext cx="22860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가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5257800"/>
            <a:ext cx="1143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국내기업 적용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예상 장애 요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5257800"/>
            <a:ext cx="2286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축적된 지식 부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정보 인프라 미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 마인드 부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5257800"/>
            <a:ext cx="2286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기존의 지적 자본 파악 곤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지적 자본에 대한 인식 부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5257800"/>
            <a:ext cx="2286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부서 이기주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경직된 조직문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- </a:t>
            </a: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암묵지에 대한 인식 부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A90E-ACCE-48D7-AB0C-F6D45A0409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505320" y="3809880"/>
            <a:ext cx="2209680" cy="129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보조 수단으로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K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15000" y="3809880"/>
            <a:ext cx="2209680" cy="129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효율 수단으로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K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22096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보완 수단으로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K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105520"/>
            <a:ext cx="22096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전략적 수단으로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cc"/>
                </a:solidFill>
                <a:latin typeface="으뜸체"/>
                <a:ea typeface="으뜸체"/>
              </a:rPr>
              <a:t>K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809880"/>
            <a:ext cx="762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원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우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43200" y="5105520"/>
            <a:ext cx="762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차별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32767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낮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32767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높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3809880"/>
            <a:ext cx="69372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1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의 전략적 위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2851200"/>
            <a:ext cx="44164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문제해결제품</a:t>
            </a:r>
            <a:r>
              <a:rPr b="1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제품</a:t>
            </a:r>
            <a:r>
              <a:rPr b="1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의 지식 집약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개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경영 전략에 부합된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의 구축 및 확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불확실한 환경하에서 기업 경쟁력을 향상할 목적으로 조직이 필요한 지식을 체계화하여 공유하고 이를 통해 새로운 지식을 창출할 수 있게끔 지원하는 정보 시스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2579-96A7-42D3-A937-43CC7EFBC5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09680" y="2209680"/>
            <a:ext cx="58676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구축할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업무에의 지식 활용을 보조해 주는 수단에 지나지 않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의 기반 요소 기술도 비교적 단순한 정보 기술이 적용될 것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단순한 지식 전달 또는 공유를 수행할 수 있게 하기 위해 인터넷 웹 브라우저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E-mail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또는 인트라넷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그룹웨어가 사용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647640" y="4481640"/>
            <a:ext cx="1366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2201760"/>
            <a:ext cx="5867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Ⅰ. 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보조 수단으로서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KM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77320" y="2201760"/>
            <a:ext cx="1143000" cy="259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효율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4800600"/>
            <a:ext cx="5867640" cy="52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완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4800600"/>
            <a:ext cx="1143000" cy="52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전략적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30200" y="2201760"/>
            <a:ext cx="8794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원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우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30200" y="4800600"/>
            <a:ext cx="8794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차별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1676520"/>
            <a:ext cx="5105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낮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1676520"/>
            <a:ext cx="1919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높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2209680"/>
            <a:ext cx="1269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전략적 위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09680" y="1371600"/>
            <a:ext cx="7010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문제해결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+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 지식 집약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487080" cy="7160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295280" y="5867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S</a:t>
            </a:r>
            <a:r>
              <a:rPr b="0" lang="zh-CN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02E0-CB3F-4AF9-98EB-84FEB8B53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352680" y="2057400"/>
            <a:ext cx="58676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Ⅰ사분면의 경우보다 월등히 우수한 능력을 가짐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현재의 정보 기술을 개선하는 데에 기반한 조직내 경영 효율 수단으로서 조직의 운영 및 관리에 핵심적인 역할을 수행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내부 효율성 강조로 외부 경쟁 지식보다는 내부 조직 지식을 대상으로 공식화된 규정에 기초한 지식의 축적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공유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·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활용을 강조하는 경향을 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정보 기술은 전사 조직을 체계화하고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이를 구조화할 수 있는 기술들이 활용됨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우수 사례 등을 공유하기 위한 그룹웨어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대규모의 지식 창고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내 커뮤니티 지원 시스템 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647640" y="4329000"/>
            <a:ext cx="13669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2049480"/>
            <a:ext cx="1143000" cy="3132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조 수단으로서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2049480"/>
            <a:ext cx="5867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Ⅱ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효율 수단으로서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5181480"/>
            <a:ext cx="11430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완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5181480"/>
            <a:ext cx="586764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전략적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2057400"/>
            <a:ext cx="879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원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우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95280" y="4952880"/>
            <a:ext cx="87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차별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9680" y="1523880"/>
            <a:ext cx="5105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낮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1523880"/>
            <a:ext cx="19191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높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2049480"/>
            <a:ext cx="1269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전략적 위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9680" y="1219320"/>
            <a:ext cx="7010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문제해결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+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 지식 집약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487080" cy="7160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295280" y="5867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Texas Instr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7F02-AD7D-487B-9DA3-947B405B95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지식경영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추진 현황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66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720" indent="-288720" algn="just">
              <a:lnSpc>
                <a:spcPct val="11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구축 배경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목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회사 목적 또는 부서 목표의 달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생산성 증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중심 경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글로벌 경영 대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720" indent="-288720" algn="just">
              <a:lnSpc>
                <a:spcPct val="11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적용 범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주로 전사적 범위로 구축하고 있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서비스업체는 건설업체를 제외하고 대부분 전사적 범위로 추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720" indent="-288720" algn="just">
              <a:lnSpc>
                <a:spcPct val="11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구축 방식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시작 시점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구축 기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방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통합적이면서 톱 다운식 접근 방식을 사용하는 지식관리방법론 적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시작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대부분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에 시작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일부는 그룹웨어 같은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도입에 맞추어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∼4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 전부터 추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-18828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공식적인 구축 계획 기간을 짧게는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7∼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월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길게는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 이상 계획하고 있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미국은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년 이하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45%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기타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2∼5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년 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(APQC, </a:t>
            </a:r>
            <a:r>
              <a:rPr b="0" i="1" lang="ko-KR" sz="1200" spc="-1" strike="noStrike">
                <a:solidFill>
                  <a:srgbClr val="ffffff"/>
                </a:solidFill>
                <a:latin typeface="Arial"/>
              </a:rPr>
              <a:t>Using Information Technology to Support Knowledge Management,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199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88960"/>
            <a:ext cx="8229600" cy="110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「지식경제리포트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현대경제연구원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」의 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1999. 4 ∼ 2000. 6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월 동안 게재된 사례 기업 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18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개사 대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서비스업체 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개사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제조업체 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zh-CN" sz="1600" spc="-1" strike="noStrike">
                <a:solidFill>
                  <a:srgbClr val="ffffff"/>
                </a:solidFill>
                <a:latin typeface="굴림"/>
              </a:rPr>
              <a:t>개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91920" y="1295280"/>
            <a:ext cx="1320480" cy="3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분석 대상 기업 개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7110-10C4-418D-A501-B543AB0F5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09680" y="2743200"/>
            <a:ext cx="58676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의 구축을 제품 특성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서비스 등의 경쟁적 우위를 창출 또는 지원하는 데 초점을 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주로 개별 제품 또는 고객 대상의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이어서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사업의 차별성을 부각하기 위해 보완해 주는 역할을 수행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용 정보 기술로는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E-mail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인트라넷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그룹웨어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소규모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repository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647640" y="4481640"/>
            <a:ext cx="1366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201760"/>
            <a:ext cx="5867640" cy="54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Ⅰ</a:t>
            </a: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. </a:t>
            </a: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조 수단으로서 </a:t>
            </a: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077320" y="2201760"/>
            <a:ext cx="1143000" cy="541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효율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743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Ⅲ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보완 수단으로서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077320" y="2743200"/>
            <a:ext cx="1143000" cy="274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전략적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30200" y="2201760"/>
            <a:ext cx="879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원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우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30200" y="3276720"/>
            <a:ext cx="879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차별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1676520"/>
            <a:ext cx="5105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낮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1676520"/>
            <a:ext cx="1919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높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2201760"/>
            <a:ext cx="12697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전략적 위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1371600"/>
            <a:ext cx="7010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문제해결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+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 지식 집약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487080" cy="7160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295280" y="5867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H</a:t>
            </a:r>
            <a:r>
              <a:rPr b="0" lang="zh-CN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사</a:t>
            </a:r>
            <a:r>
              <a:rPr b="0" lang="en-US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, K</a:t>
            </a:r>
            <a:r>
              <a:rPr b="0" lang="zh-CN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4018-6BDC-4788-8434-2803651ACC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2590920"/>
            <a:ext cx="58676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조직의 미래 위치를 확보하는 데에 핵심적인 역할을 수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최고 경영자는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의 도입에 깊은 관심을 가지며 이의 실행에도 지속적인 노력을 기울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사업상 필요한 조직 내외의 사람들을 대상으로 거의 모든 지식 사슬의 활동에 대해 현재의 기술적인 측면에서 지원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대규모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성능의  시스템 또는 경우에 따라서는 첨단 기술을 도입한 시스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9999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는 기존 조직내 정보 시스템과 밀접한 연계를 가지면서 조직내 지식을 통합 관리할 수 있는 능력을 가짐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647640" y="4108320"/>
            <a:ext cx="13669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2057400"/>
            <a:ext cx="11430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조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52680" y="2057400"/>
            <a:ext cx="586764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효율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2590920"/>
            <a:ext cx="1143000" cy="3352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보완 수단으로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52680" y="25909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Ⅳ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전략적 수단으로서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K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2057400"/>
            <a:ext cx="87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원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우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30200" y="2590920"/>
            <a:ext cx="8794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차별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1600200"/>
            <a:ext cx="5105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낮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15200" y="1600200"/>
            <a:ext cx="1919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높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1836720"/>
            <a:ext cx="1269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전략적 위치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09680" y="1295280"/>
            <a:ext cx="7010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문제해결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제품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+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의 지식 집약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487080" cy="7160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295280" y="58672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으뜸체"/>
                <a:ea typeface="으뜸체"/>
              </a:rPr>
              <a:t>Arthur And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42E3-B153-4863-ADB6-898B138AD1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목적 지향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M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자사의 경영 전략과 문제해결제품에의 지식 집약도에 기반하여 적절한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를 구축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차별화 전략 기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를 제품 및 시장 차별화에 대응할 수 있도록 지속적으로 고객 및 경쟁사 중심의 지식을 획득하고 이를 활용할 수 있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특히 제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서비스의 지식 집약도가 높아질수록 전사적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를 구축해야 하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그러므로 보다 첨단이면서 고성능의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를 구축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원가 우위 전략 기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사내의 효율성을 제고하는 데 집중하기 위해 현재의 정보 기술 자원에 기반한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를 구현하는 데 강조점을 두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제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서비스의 지식 집약도가 저수준일 경우에는 단순히 지식의 전달과 공유를 지원할 수 있는 정보 기술로 구성된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를 구축하는 것이 바람직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F0F4-1663-48F6-ABCC-74A06489A0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부록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추진 현황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서비스업체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5680" y="1295280"/>
            <a:ext cx="1371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대한투자신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1295280"/>
            <a:ext cx="1371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한진해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00680" y="1295280"/>
            <a:ext cx="1371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금강개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72280" y="1295280"/>
            <a:ext cx="1371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SKC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43880" y="1295280"/>
            <a:ext cx="1371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대림산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115480" y="1293840"/>
            <a:ext cx="1371600" cy="3063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대인재개발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55680" y="160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생산성 증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60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글로벌 경영 대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00680" y="160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관리 고도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72280" y="160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수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43880" y="16002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수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15480" y="159876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업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교육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관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556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272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006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22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438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건설부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15480" y="1981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57480" y="228600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29080" y="228600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02120" y="228600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3720" y="228600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45320" y="228600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16920" y="22813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기능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5680" y="25909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27280" y="25909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00680" y="25909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6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72280" y="25909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43880" y="2590920"/>
            <a:ext cx="1371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15480" y="25858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55680" y="2895480"/>
            <a:ext cx="1371600" cy="75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적 자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구조적 자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자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29080" y="2895480"/>
            <a:ext cx="1371600" cy="75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00680" y="2895480"/>
            <a:ext cx="1371600" cy="75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상품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서비스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일반 관리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72280" y="2897280"/>
            <a:ext cx="137160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관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정형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·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비정형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43880" y="2897280"/>
            <a:ext cx="1371600" cy="75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수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115480" y="2895480"/>
            <a:ext cx="1371600" cy="75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업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교육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관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556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트라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290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트라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006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그룹웨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722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7438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트라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15480" y="3657600"/>
            <a:ext cx="13716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Pack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556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C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추진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관리센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290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C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006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기동취재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22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사업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438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등록센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115480" y="4038480"/>
            <a:ext cx="1371600" cy="60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평가위원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Knowled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Specia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55680" y="4648320"/>
            <a:ext cx="1371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챔피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대투 지식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29080" y="4648320"/>
            <a:ext cx="1371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 경진대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평가 프로그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00680" y="4648320"/>
            <a:ext cx="1371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올림픽대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’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명장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내기네스제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2280" y="4649760"/>
            <a:ext cx="1371600" cy="76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포인트 제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챔피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43880" y="4649760"/>
            <a:ext cx="1371600" cy="76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15480" y="4648320"/>
            <a:ext cx="1371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556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사상 혜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290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006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외교육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22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438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115480" y="5410080"/>
            <a:ext cx="1371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295280"/>
            <a:ext cx="7221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구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3520" y="1600200"/>
            <a:ext cx="7221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981080"/>
            <a:ext cx="722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범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2286000"/>
            <a:ext cx="722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방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2595600"/>
            <a:ext cx="72216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시작시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2895480"/>
            <a:ext cx="72216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유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3657600"/>
            <a:ext cx="72216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적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4038480"/>
            <a:ext cx="72216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담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4648320"/>
            <a:ext cx="72216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도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5410080"/>
            <a:ext cx="722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센티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5791320"/>
            <a:ext cx="8953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주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: 1)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본 자료는 「지식경제리포트」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현대경제연구원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의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1999. 4 ~ 2000. 6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월까지 소개된 국내 기업들의 지식 경영 구축 사례를 대상으로 살펴본 것임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       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따라서 사례 기업의 현재 지식 경영 추진 현황과는 차이가 있음에 유의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   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2) `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 방식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'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은 경영 전략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업무 프로세스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문화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기술 등을 종합적으로 고려하는 방식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, `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 방식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'</a:t>
            </a:r>
            <a:r>
              <a:rPr b="0" lang="ko-KR" sz="1000" spc="-1" strike="noStrike">
                <a:solidFill>
                  <a:srgbClr val="ffffff"/>
                </a:solidFill>
                <a:latin typeface="으뜸체"/>
                <a:ea typeface="으뜸체"/>
              </a:rPr>
              <a:t>은 특정 경영 기능 또는 기술적 요소만 고려하여 추진하는 방식을 의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3663-F83C-4C4F-9BDE-A98866F71E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부록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추진 현황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서비스업체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57480" y="1297080"/>
            <a:ext cx="1639800" cy="3031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한국교육미디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7280" y="1297080"/>
            <a:ext cx="1639800" cy="3031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대건설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35640" y="1297080"/>
            <a:ext cx="1639800" cy="3031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LG-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1297080"/>
            <a:ext cx="1640160" cy="3031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대상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812000" y="1295280"/>
            <a:ext cx="16398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삼성에버랜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57480" y="1600200"/>
            <a:ext cx="16398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중심 경영체제 구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97280" y="1600200"/>
            <a:ext cx="16398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수행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장문제 해결능력 극대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35640" y="1600200"/>
            <a:ext cx="163980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수행 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3640" y="1600200"/>
            <a:ext cx="16401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글로벌 경영 대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812000" y="1600200"/>
            <a:ext cx="163980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관리 고도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2209680"/>
            <a:ext cx="1640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건설사업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33840" y="2209680"/>
            <a:ext cx="1639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수행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2514600"/>
            <a:ext cx="164016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55680" y="2825640"/>
            <a:ext cx="163980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5480" y="2825640"/>
            <a:ext cx="16401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33840" y="2825640"/>
            <a:ext cx="163980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8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2825640"/>
            <a:ext cx="163980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810560" y="2825640"/>
            <a:ext cx="163980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57480" y="3124080"/>
            <a:ext cx="16398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품 기획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구 개발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판매 영업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관리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5480" y="3124080"/>
            <a:ext cx="164016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기술 건설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장수행 노하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33840" y="3124080"/>
            <a:ext cx="16398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업무 가이드라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관련 문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프로젝트 노하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3124080"/>
            <a:ext cx="16398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업무 문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우수 사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10560" y="3124080"/>
            <a:ext cx="16398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장 경험과 노하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57480" y="396252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95480" y="3962520"/>
            <a:ext cx="164016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이버지식마당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33840" y="396252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Sma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72200" y="396252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10560" y="396252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57480" y="4425840"/>
            <a:ext cx="1639800" cy="60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경영기획실 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담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4425840"/>
            <a:ext cx="1640160" cy="60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33840" y="4425840"/>
            <a:ext cx="1639800" cy="59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C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KC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조직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관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센터와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개발팀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72200" y="4425840"/>
            <a:ext cx="1639800" cy="60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10560" y="4425840"/>
            <a:ext cx="1639800" cy="60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CK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T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57480" y="5029200"/>
            <a:ext cx="1639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청년이사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안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· OJT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도의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경영 체제로의 흡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95480" y="5029200"/>
            <a:ext cx="1640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전문가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/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챔피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내 연구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교육프로그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33840" y="5022720"/>
            <a:ext cx="1639800" cy="84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평가체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72200" y="5029200"/>
            <a:ext cx="16398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임직원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OA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자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도 및 자격시험 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도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810560" y="5029200"/>
            <a:ext cx="16398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컨테스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 실행 설문 조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DB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보유량 측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57480" y="586116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95480" y="5861160"/>
            <a:ext cx="164016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원금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유학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수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세미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57480" y="2209680"/>
            <a:ext cx="1639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2209680"/>
            <a:ext cx="1639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810560" y="2209680"/>
            <a:ext cx="16398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57480" y="2514600"/>
            <a:ext cx="163980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72200" y="2514600"/>
            <a:ext cx="163980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10560" y="2514600"/>
            <a:ext cx="163980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33840" y="2514600"/>
            <a:ext cx="163980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33840" y="586116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72200" y="586116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10560" y="5861160"/>
            <a:ext cx="163980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1295280"/>
            <a:ext cx="7221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구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1600200"/>
            <a:ext cx="72216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2209680"/>
            <a:ext cx="722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범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2514600"/>
            <a:ext cx="722160" cy="31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방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2825640"/>
            <a:ext cx="722160" cy="2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시작시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3124080"/>
            <a:ext cx="72216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유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3962520"/>
            <a:ext cx="72216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적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4425840"/>
            <a:ext cx="722160" cy="60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담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5029200"/>
            <a:ext cx="72216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도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5861160"/>
            <a:ext cx="722160" cy="46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센티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BB8B-6A8D-46AD-927D-37DAA8354C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부록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추진 현황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제조업체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3520" y="1295280"/>
            <a:ext cx="7221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구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600200"/>
            <a:ext cx="722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1295280"/>
            <a:ext cx="1182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LG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산전기술연구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79960" y="1295280"/>
            <a:ext cx="11829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삼성전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1295280"/>
            <a:ext cx="1182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에스콰이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42280" y="1295280"/>
            <a:ext cx="1182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대전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00600" y="160020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구 생산성 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성과 향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79960" y="160020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무 생산성 증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62920" y="160020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 중심 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42280" y="160020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R&amp;D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205740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R&amp;D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구소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79960" y="2057400"/>
            <a:ext cx="11829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162920" y="205740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42280" y="205740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R&amp;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2057400"/>
            <a:ext cx="7221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범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0600" y="2362320"/>
            <a:ext cx="118260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79960" y="2362320"/>
            <a:ext cx="118296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62920" y="2362320"/>
            <a:ext cx="118260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42280" y="2357280"/>
            <a:ext cx="118260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2362320"/>
            <a:ext cx="72216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방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2671920"/>
            <a:ext cx="118260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79960" y="2671920"/>
            <a:ext cx="118296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8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62920" y="2671920"/>
            <a:ext cx="118260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42280" y="2666880"/>
            <a:ext cx="1182600" cy="30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2000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2668680"/>
            <a:ext cx="72216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시작시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2971800"/>
            <a:ext cx="7221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유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00600" y="2971800"/>
            <a:ext cx="1182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특허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단순자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학습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업무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적사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Best Prac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79960" y="2973240"/>
            <a:ext cx="1182960" cy="98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결재 및 보고 문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162920" y="2973240"/>
            <a:ext cx="1182600" cy="98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내부지식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직원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아이디어와 지식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외부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객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협력업체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342280" y="2971800"/>
            <a:ext cx="1182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R&amp;D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수행 지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3962520"/>
            <a:ext cx="722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적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0600" y="396252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기술정보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시스템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TIS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79960" y="396252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그룹웨어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실시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관리시스템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162920" y="396252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E-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342280" y="396252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3520" y="4422600"/>
            <a:ext cx="72216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담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00600" y="4422600"/>
            <a:ext cx="118260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기술분과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79960" y="4419720"/>
            <a:ext cx="1182960" cy="455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62920" y="4422600"/>
            <a:ext cx="118260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342280" y="4422600"/>
            <a:ext cx="118260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T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4876920"/>
            <a:ext cx="72216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도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4876920"/>
            <a:ext cx="1182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마일리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Best Engine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올림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화 지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4878360"/>
            <a:ext cx="1182960" cy="76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정보센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3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진 아웃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수평전개활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62920" y="4878360"/>
            <a:ext cx="1182600" cy="76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비전 보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342280" y="4876920"/>
            <a:ext cx="1182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전문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3520" y="5638680"/>
            <a:ext cx="722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센티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00600" y="563868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79960" y="563868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없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62920" y="563868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승급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승진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경제적 보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42280" y="563868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76920" y="1371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8000" y="1297080"/>
            <a:ext cx="1182600" cy="3031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SK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주식회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18000" y="160020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설비최적운영능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고수익체제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18000" y="205740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전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18000" y="2362320"/>
            <a:ext cx="1182600" cy="30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통합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8000" y="266688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9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 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월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8000" y="2971800"/>
            <a:ext cx="1182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품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영업 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공장운영 노하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8000" y="396252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18000" y="4419720"/>
            <a:ext cx="1182600" cy="455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KM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추진조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위원회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무국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18000" y="4876920"/>
            <a:ext cx="1182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 전문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보상 체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18000" y="563868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표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55680" y="1295280"/>
            <a:ext cx="11826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한국얀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38280" y="1295280"/>
            <a:ext cx="118296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현대석유화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5680" y="160020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영업 지식 공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160020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민첩대응조직운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55680" y="2057400"/>
            <a:ext cx="118260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영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2057400"/>
            <a:ext cx="11829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55680" y="2362320"/>
            <a:ext cx="118260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부분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8280" y="2357280"/>
            <a:ext cx="1182960" cy="30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55680" y="2671920"/>
            <a:ext cx="1182600" cy="29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1996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8280" y="2666880"/>
            <a:ext cx="1182960" cy="30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55680" y="2973240"/>
            <a:ext cx="1182600" cy="98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품별 치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성공 사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품별 고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만족 사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2971800"/>
            <a:ext cx="11829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일반문서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기술정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표준운전매뉴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비정상 운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보고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55680" y="396252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E-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38280" y="396252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</a:t>
            </a: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인트라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5680" y="4422600"/>
            <a:ext cx="118260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최고경영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38280" y="4422600"/>
            <a:ext cx="1182960" cy="4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지식경영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T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55680" y="4878360"/>
            <a:ext cx="1182600" cy="76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good job mark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38280" y="4876920"/>
            <a:ext cx="118296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55680" y="5638680"/>
            <a:ext cx="11826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포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5638680"/>
            <a:ext cx="11829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F57B-168F-496C-9945-B466AF295F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지식경영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추진 현황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5840" indent="-28584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관리할 지식 유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업무 유형 또는 문서 중심의 분류 방식으로 구분된 지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업무상 발생되는 공식 문서나 비정형화된 정보를 업무 내용에 따라 분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적용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KMS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솔류션을 도입하여 구축하지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다른 한편으로는 일부 요소 기술로서 기존에 도입되어 있는 인트라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 DB,   E-mail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을 활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전담 조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관리센터와 같은 실무 전담 조직을 운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CKO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임명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임원진 중심의 평가 위원회 설치 등 전사 차원의 조직 설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도입 제도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인센티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 마일리지 제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우수 사례 및 사내 전문가를 발굴하는 경연 대회 개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전문 분야별 사내 지식 전문가 임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7360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사상 혜택이나 포상 제도와 연계하여 실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993E-3363-4E00-8BF6-E2EB5C054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지식경영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추진 평가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5213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위주의 추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구축 방법론 활용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전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프로세스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정보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정보 관리 중심의 접근 방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공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k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창조 및 활용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720" indent="-28872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지식 관리 방법론에 집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지적 자본 방법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지식 창조 방법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720" indent="-288720" algn="just">
              <a:lnSpc>
                <a:spcPct val="12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지식경영의 다양한 접근 노력 미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st Practic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의 미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st Practic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의 표면적 사실에 치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276480" algn="just">
              <a:lnSpc>
                <a:spcPct val="12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조직 구조 및 문화의 한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1520" y="1676520"/>
            <a:ext cx="5378400" cy="4292640"/>
          </a:xfrm>
          <a:custGeom>
            <a:avLst/>
            <a:gdLst>
              <a:gd name="textAreaLeft" fmla="*/ 0 w 5378400"/>
              <a:gd name="textAreaRight" fmla="*/ 5378400 w 5378400"/>
              <a:gd name="textAreaTop" fmla="*/ 0 h 4292640"/>
              <a:gd name="textAreaBottom" fmla="*/ 4293000 h 429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26" y="0"/>
                </a:lnTo>
                <a:lnTo>
                  <a:pt x="21600" y="10800"/>
                </a:lnTo>
                <a:lnTo>
                  <a:pt x="17826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213000"/>
            <a:ext cx="32004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91960" indent="-291960" algn="ctr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지식관리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v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지식경영의 혼동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“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Flavor of the month”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으뜸체"/>
              </a:rPr>
              <a:t>인식 경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CD56-BB30-4245-894E-227F13BD5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으뜸체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으뜸체"/>
              </a:rPr>
              <a:t>해외 선진업체의 지식경영 배경과 기반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43160" y="3562200"/>
            <a:ext cx="8001000" cy="2533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9680" y="2343240"/>
            <a:ext cx="8077320" cy="979560"/>
          </a:xfrm>
          <a:custGeom>
            <a:avLst/>
            <a:gdLst/>
            <a:ahLst/>
            <a:rect l="l" t="t" r="r" b="b"/>
            <a:pathLst>
              <a:path w="5088" h="617">
                <a:moveTo>
                  <a:pt x="33" y="171"/>
                </a:moveTo>
                <a:cubicBezTo>
                  <a:pt x="34" y="170"/>
                  <a:pt x="0" y="170"/>
                  <a:pt x="41" y="167"/>
                </a:cubicBezTo>
                <a:cubicBezTo>
                  <a:pt x="83" y="164"/>
                  <a:pt x="163" y="99"/>
                  <a:pt x="284" y="150"/>
                </a:cubicBezTo>
                <a:cubicBezTo>
                  <a:pt x="405" y="202"/>
                  <a:pt x="642" y="444"/>
                  <a:pt x="769" y="478"/>
                </a:cubicBezTo>
                <a:cubicBezTo>
                  <a:pt x="897" y="513"/>
                  <a:pt x="955" y="339"/>
                  <a:pt x="1045" y="358"/>
                </a:cubicBezTo>
                <a:cubicBezTo>
                  <a:pt x="1134" y="377"/>
                  <a:pt x="1219" y="617"/>
                  <a:pt x="1306" y="591"/>
                </a:cubicBezTo>
                <a:cubicBezTo>
                  <a:pt x="1393" y="565"/>
                  <a:pt x="1486" y="301"/>
                  <a:pt x="1567" y="203"/>
                </a:cubicBezTo>
                <a:cubicBezTo>
                  <a:pt x="1648" y="105"/>
                  <a:pt x="1694" y="0"/>
                  <a:pt x="1795" y="5"/>
                </a:cubicBezTo>
                <a:cubicBezTo>
                  <a:pt x="1896" y="10"/>
                  <a:pt x="2043" y="195"/>
                  <a:pt x="2172" y="236"/>
                </a:cubicBezTo>
                <a:cubicBezTo>
                  <a:pt x="2301" y="277"/>
                  <a:pt x="2448" y="264"/>
                  <a:pt x="2568" y="254"/>
                </a:cubicBezTo>
                <a:cubicBezTo>
                  <a:pt x="2688" y="244"/>
                  <a:pt x="2730" y="132"/>
                  <a:pt x="2895" y="174"/>
                </a:cubicBezTo>
                <a:cubicBezTo>
                  <a:pt x="3060" y="216"/>
                  <a:pt x="3403" y="489"/>
                  <a:pt x="3556" y="508"/>
                </a:cubicBezTo>
                <a:cubicBezTo>
                  <a:pt x="3709" y="527"/>
                  <a:pt x="3730" y="321"/>
                  <a:pt x="3816" y="287"/>
                </a:cubicBezTo>
                <a:cubicBezTo>
                  <a:pt x="3902" y="254"/>
                  <a:pt x="3992" y="316"/>
                  <a:pt x="4074" y="306"/>
                </a:cubicBezTo>
                <a:cubicBezTo>
                  <a:pt x="4155" y="297"/>
                  <a:pt x="4221" y="231"/>
                  <a:pt x="4309" y="234"/>
                </a:cubicBezTo>
                <a:cubicBezTo>
                  <a:pt x="4397" y="236"/>
                  <a:pt x="4511" y="325"/>
                  <a:pt x="4603" y="320"/>
                </a:cubicBezTo>
                <a:cubicBezTo>
                  <a:pt x="4694" y="316"/>
                  <a:pt x="4777" y="225"/>
                  <a:pt x="4857" y="203"/>
                </a:cubicBezTo>
                <a:cubicBezTo>
                  <a:pt x="4938" y="180"/>
                  <a:pt x="5040" y="188"/>
                  <a:pt x="5088" y="184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47840" y="2014560"/>
            <a:ext cx="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0440" y="29923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67080" y="2928960"/>
            <a:ext cx="0" cy="7632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4480" y="2928960"/>
            <a:ext cx="0" cy="7632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2960" y="2928960"/>
            <a:ext cx="0" cy="7632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74040" y="2928960"/>
            <a:ext cx="0" cy="7632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6000" y="31748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7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06800" y="31748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82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3560" y="317484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8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55000" y="31748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92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96480" y="3203640"/>
            <a:ext cx="35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97</a:t>
            </a:r>
            <a:r>
              <a:rPr b="0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360" y="2257560"/>
            <a:ext cx="519120" cy="77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미국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GD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성장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190656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으뜸체"/>
                <a:ea typeface="으뜸체"/>
              </a:rPr>
              <a:t>10%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4080" y="3125880"/>
            <a:ext cx="42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으뜸체"/>
                <a:ea typeface="으뜸체"/>
              </a:rPr>
              <a:t>-3%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05120" y="2389320"/>
            <a:ext cx="37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으뜸체"/>
                <a:ea typeface="으뜸체"/>
              </a:rPr>
              <a:t>5%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94040" y="2116080"/>
            <a:ext cx="0" cy="83808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3960" y="1441440"/>
            <a:ext cx="108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차 오일쇼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미국 기업 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구조조정 착수</a:t>
            </a:r>
            <a:r>
              <a:rPr b="0" lang="en-US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59360" y="174636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프라자 합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2114640"/>
            <a:ext cx="0" cy="398124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25640" y="1440000"/>
            <a:ext cx="10882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버블 붕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미국 기업 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구조조정 착수</a:t>
            </a: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2080" y="2116080"/>
            <a:ext cx="0" cy="83808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7720" y="387828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Q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82640" y="3583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87240" y="418320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Z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3880" y="35751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TQ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81760" y="35812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ABC/A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32600" y="38606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CALS/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5320" y="356724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ER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06120" y="422100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SC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0" y="48369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민첩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21480" y="5111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ff00"/>
                </a:solidFill>
                <a:uFillTx/>
                <a:latin typeface="으뜸체"/>
                <a:ea typeface="으뜸체"/>
              </a:rPr>
              <a:t>지식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7680" y="4816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핵심역량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88620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전략적 제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4520" y="4183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아웃소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78280" y="390384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B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80720" y="483876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T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0800" y="35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E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27320" y="5423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복잡계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27320" y="57531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홀로닉경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20680" y="5149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Mass Custo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4320" y="54547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DB 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9600" y="420372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C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05600" y="576432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관계 마케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66080" y="3586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J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0440" y="45165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매트릭스 조직</a:t>
            </a: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/</a:t>
            </a:r>
            <a:r>
              <a:rPr b="0" lang="ko-KR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팀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9720" y="2114640"/>
            <a:ext cx="0" cy="83952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7400" y="179244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으뜸체"/>
                <a:ea typeface="으뜸체"/>
              </a:rPr>
              <a:t>미국 경제 호황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66600" y="449748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Restructu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0" y="4524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으뜸체"/>
                <a:ea typeface="으뜸체"/>
              </a:rPr>
              <a:t>가상기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21400" y="2239920"/>
            <a:ext cx="1943280" cy="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6840" y="4435560"/>
            <a:ext cx="423720" cy="77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경영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혁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으뜸체"/>
                <a:ea typeface="으뜸체"/>
              </a:rPr>
              <a:t>기법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7778-FA87-4393-B0FF-8574538482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으뜸체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으뜸체"/>
              </a:rPr>
              <a:t>해외 선진업체의 지식경영 배경과 기반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06640" y="5495760"/>
            <a:ext cx="567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2640" y="5673600"/>
            <a:ext cx="1019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경쟁 기반 요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5000" y="4933800"/>
            <a:ext cx="3416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6160" y="1911240"/>
            <a:ext cx="0" cy="3705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3160" y="1911240"/>
            <a:ext cx="0" cy="3705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6120" y="1911240"/>
            <a:ext cx="0" cy="3705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95560" y="1911240"/>
            <a:ext cx="1440" cy="3705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0840" y="1905120"/>
            <a:ext cx="0" cy="3711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76440" y="1911240"/>
            <a:ext cx="0" cy="3705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7520" y="513252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사업기획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66000" y="4975200"/>
            <a:ext cx="547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제품개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디자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7200" y="512604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연구개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02080" y="5132520"/>
            <a:ext cx="550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생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37040" y="4981680"/>
            <a:ext cx="520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영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마케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8080" y="4983120"/>
            <a:ext cx="433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A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7720" y="1945440"/>
            <a:ext cx="3636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중    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7720" y="4164480"/>
            <a:ext cx="3636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경    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9720" y="277812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9720" y="3706920"/>
            <a:ext cx="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38600" y="2122560"/>
            <a:ext cx="134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&lt;</a:t>
            </a:r>
            <a:r>
              <a:rPr b="0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과거 경쟁 기반</a:t>
            </a:r>
            <a:r>
              <a:rPr b="0" lang="en-US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8600" y="4368960"/>
            <a:ext cx="134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&lt;</a:t>
            </a:r>
            <a:r>
              <a:rPr b="0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최근 경쟁 기반</a:t>
            </a:r>
            <a:r>
              <a:rPr b="0" lang="en-US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0680" y="2846520"/>
            <a:ext cx="3034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560" y="1905120"/>
            <a:ext cx="3417840" cy="3695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3680" y="513252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으뜸체"/>
                <a:ea typeface="으뜸체"/>
              </a:rPr>
              <a:t>구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590200" y="3581280"/>
            <a:ext cx="3657600" cy="304920"/>
          </a:xfrm>
          <a:prstGeom prst="triangle">
            <a:avLst>
              <a:gd name="adj" fmla="val 49954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895480"/>
            <a:ext cx="5335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문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해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제품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800600"/>
            <a:ext cx="449568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Human &amp; Knowledge based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981080"/>
            <a:ext cx="4572000" cy="76212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고객 풍족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(Customer Enrichme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2895480"/>
            <a:ext cx="533160" cy="1828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비즈니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프로세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모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재구축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895480"/>
            <a:ext cx="533520" cy="1828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조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구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재설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2895480"/>
            <a:ext cx="533520" cy="1828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제조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서비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컴퍼니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34520" y="2895480"/>
            <a:ext cx="533160" cy="1828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확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기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구축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98440" y="2413080"/>
          <a:ext cx="2820960" cy="195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8440" y="2413080"/>
                    <a:ext cx="282096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BE2E-C861-46FE-AB31-5D3F815B47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국내 기업의 지식경영 추진 방향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1676520"/>
            <a:ext cx="5219640" cy="4267080"/>
          </a:xfrm>
          <a:custGeom>
            <a:avLst/>
            <a:gdLst>
              <a:gd name="textAreaLeft" fmla="*/ 815400 w 5219640"/>
              <a:gd name="textAreaRight" fmla="*/ 4572360 w 5219640"/>
              <a:gd name="textAreaTop" fmla="*/ 849240 h 4267080"/>
              <a:gd name="textAreaBottom" fmla="*/ 3417840 h 4267080"/>
            </a:gdLst>
            <a:ahLst/>
            <a:rect l="textAreaLeft" t="textAreaTop" r="textAreaRight" b="textAreaBottom"/>
            <a:pathLst>
              <a:path w="21600" h="21600">
                <a:moveTo>
                  <a:pt x="3375" y="4300"/>
                </a:moveTo>
                <a:lnTo>
                  <a:pt x="17149" y="4300"/>
                </a:lnTo>
                <a:lnTo>
                  <a:pt x="17149" y="0"/>
                </a:lnTo>
                <a:lnTo>
                  <a:pt x="21600" y="10800"/>
                </a:lnTo>
                <a:lnTo>
                  <a:pt x="17149" y="21600"/>
                </a:lnTo>
                <a:lnTo>
                  <a:pt x="17149" y="17300"/>
                </a:lnTo>
                <a:lnTo>
                  <a:pt x="3375" y="17300"/>
                </a:lnTo>
                <a:close/>
              </a:path>
              <a:path w="21600" h="21600">
                <a:moveTo>
                  <a:pt x="0" y="4300"/>
                </a:moveTo>
                <a:lnTo>
                  <a:pt x="675" y="4300"/>
                </a:lnTo>
                <a:lnTo>
                  <a:pt x="675" y="17300"/>
                </a:lnTo>
                <a:lnTo>
                  <a:pt x="0" y="17300"/>
                </a:lnTo>
                <a:close/>
              </a:path>
              <a:path w="21600" h="21600">
                <a:moveTo>
                  <a:pt x="1350" y="4300"/>
                </a:moveTo>
                <a:lnTo>
                  <a:pt x="2700" y="4300"/>
                </a:lnTo>
                <a:lnTo>
                  <a:pt x="2700" y="17300"/>
                </a:lnTo>
                <a:lnTo>
                  <a:pt x="1350" y="173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5181480"/>
            <a:ext cx="4114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핵심 지식 요소 위주의 지식 역량 강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133720"/>
            <a:ext cx="4114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으뜸체"/>
                <a:ea typeface="으뜸체"/>
              </a:rPr>
              <a:t>비전과의 정합성 유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81000" y="4038480"/>
            <a:ext cx="30574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목표 지향적 지식 관리 시스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Goal-oriented KM syst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1000" y="2819520"/>
            <a:ext cx="30574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개</a:t>
            </a:r>
            <a:r>
              <a:rPr b="1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Deployment)</a:t>
            </a: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추진 방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8560" y="2684520"/>
            <a:ext cx="3257640" cy="22860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311640"/>
            <a:ext cx="1905120" cy="103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기반형 조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Knowledge-ba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organiz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76960" y="2286000"/>
            <a:ext cx="78120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58240" y="3463920"/>
            <a:ext cx="78084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타업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기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463920"/>
            <a:ext cx="781200" cy="72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협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67160" y="3827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38275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667560" y="431784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667560" y="301428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41800" y="2577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으뜸체"/>
                <a:ea typeface="으뜸체"/>
              </a:rPr>
              <a:t>지식네트워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76960" y="4683240"/>
            <a:ext cx="781200" cy="72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경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0F55-DE08-443B-944A-F31C88658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7800" y="1320840"/>
            <a:ext cx="879480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 algn="just">
              <a:lnSpc>
                <a:spcPct val="110000"/>
              </a:lnSpc>
              <a:spcBef>
                <a:spcPts val="451"/>
              </a:spcBef>
              <a:buClr>
                <a:srgbClr val="9999ff"/>
              </a:buClr>
              <a:buSzPct val="75000"/>
              <a:buFont typeface="굴림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개념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 전략의 우선 순위에 따라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직 구조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제도 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문화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IT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 다양한 지식경영의 실행 영역을 전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확장해 가면서 점차 지식 기반의 문제 해결 제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제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서비스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을 창출하는 지식기반형 조직을 구축해 나가는 방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7936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별 접근 방식으로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방법론 또는 기존 조직 및 운영 체제의 변화를  도모하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의 성공적 경험을 기반으로 다음 단계로 이행하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궁극적으로 조직 통합을 도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5160" indent="-28260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 중심의 기능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-&gt;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전사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-&gt;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간 협력 공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commun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5160" indent="-28260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 위주의 지식 관리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-&gt;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간 위주의 지식 관리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5160" indent="-282600" algn="just">
              <a:lnSpc>
                <a:spcPct val="110000"/>
              </a:lnSpc>
              <a:spcBef>
                <a:spcPts val="400"/>
              </a:spcBef>
              <a:buClr>
                <a:srgbClr val="9999ff"/>
              </a:buClr>
              <a:buFont typeface="굴림"/>
              <a:buChar char="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다양한 방법론 적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351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599760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2040" y="5997600"/>
            <a:ext cx="31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17000" y="6019920"/>
            <a:ext cx="66384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굴림"/>
                <a:ea typeface="으뜸체"/>
              </a:rPr>
              <a:t>해결책 제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84360" y="5410080"/>
            <a:ext cx="24444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굴림"/>
                <a:ea typeface="으뜸체"/>
              </a:rPr>
              <a:t>시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73480" y="5661000"/>
            <a:ext cx="4633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굴림"/>
                <a:ea typeface="으뜸체"/>
              </a:rPr>
              <a:t>(</a:t>
            </a:r>
            <a:r>
              <a:rPr b="0" lang="zh-CN" sz="1600" spc="-1" strike="noStrike">
                <a:solidFill>
                  <a:srgbClr val="ffff00"/>
                </a:solidFill>
                <a:latin typeface="굴림"/>
                <a:ea typeface="으뜸체"/>
              </a:rPr>
              <a:t>고객</a:t>
            </a:r>
            <a:r>
              <a:rPr b="0" lang="en-US" sz="1600" spc="-1" strike="noStrike">
                <a:solidFill>
                  <a:srgbClr val="ffff00"/>
                </a:solidFill>
                <a:latin typeface="굴림"/>
                <a:ea typeface="으뜸체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32960" y="5410080"/>
            <a:ext cx="4885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굴림"/>
                <a:ea typeface="으뜸체"/>
              </a:rPr>
              <a:t>문제해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51760" y="5661000"/>
            <a:ext cx="24444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굴림"/>
                <a:ea typeface="으뜸체"/>
              </a:rPr>
              <a:t>제품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826400" y="4572000"/>
            <a:ext cx="658800" cy="639720"/>
            <a:chOff x="7826400" y="4572000"/>
            <a:chExt cx="658800" cy="639720"/>
          </a:xfrm>
        </p:grpSpPr>
        <p:sp>
          <p:nvSpPr>
            <p:cNvPr id="221" name=""/>
            <p:cNvSpPr/>
            <p:nvPr/>
          </p:nvSpPr>
          <p:spPr>
            <a:xfrm>
              <a:off x="7908840" y="4662360"/>
              <a:ext cx="488520" cy="182160"/>
            </a:xfrm>
            <a:custGeom>
              <a:avLst/>
              <a:gdLst/>
              <a:ahLst/>
              <a:rect l="l" t="t" r="r" b="b"/>
              <a:pathLst>
                <a:path w="379" h="242">
                  <a:moveTo>
                    <a:pt x="0" y="242"/>
                  </a:moveTo>
                  <a:lnTo>
                    <a:pt x="127" y="0"/>
                  </a:lnTo>
                  <a:lnTo>
                    <a:pt x="379" y="0"/>
                  </a:lnTo>
                  <a:lnTo>
                    <a:pt x="252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31240" y="4674240"/>
              <a:ext cx="324720" cy="111960"/>
            </a:xfrm>
            <a:custGeom>
              <a:avLst/>
              <a:gdLst/>
              <a:ahLst/>
              <a:rect l="l" t="t" r="r" b="b"/>
              <a:pathLst>
                <a:path w="252" h="149">
                  <a:moveTo>
                    <a:pt x="157" y="136"/>
                  </a:moveTo>
                  <a:lnTo>
                    <a:pt x="161" y="127"/>
                  </a:lnTo>
                  <a:lnTo>
                    <a:pt x="168" y="122"/>
                  </a:lnTo>
                  <a:lnTo>
                    <a:pt x="180" y="122"/>
                  </a:lnTo>
                  <a:lnTo>
                    <a:pt x="186" y="127"/>
                  </a:lnTo>
                  <a:lnTo>
                    <a:pt x="189" y="136"/>
                  </a:lnTo>
                  <a:lnTo>
                    <a:pt x="186" y="145"/>
                  </a:lnTo>
                  <a:lnTo>
                    <a:pt x="180" y="149"/>
                  </a:lnTo>
                  <a:lnTo>
                    <a:pt x="168" y="149"/>
                  </a:lnTo>
                  <a:lnTo>
                    <a:pt x="161" y="145"/>
                  </a:lnTo>
                  <a:lnTo>
                    <a:pt x="157" y="136"/>
                  </a:lnTo>
                  <a:close/>
                  <a:moveTo>
                    <a:pt x="109" y="136"/>
                  </a:moveTo>
                  <a:lnTo>
                    <a:pt x="114" y="127"/>
                  </a:lnTo>
                  <a:lnTo>
                    <a:pt x="121" y="122"/>
                  </a:lnTo>
                  <a:lnTo>
                    <a:pt x="132" y="122"/>
                  </a:lnTo>
                  <a:lnTo>
                    <a:pt x="139" y="127"/>
                  </a:lnTo>
                  <a:lnTo>
                    <a:pt x="141" y="136"/>
                  </a:lnTo>
                  <a:lnTo>
                    <a:pt x="139" y="145"/>
                  </a:lnTo>
                  <a:lnTo>
                    <a:pt x="132" y="149"/>
                  </a:lnTo>
                  <a:lnTo>
                    <a:pt x="121" y="149"/>
                  </a:lnTo>
                  <a:lnTo>
                    <a:pt x="114" y="145"/>
                  </a:lnTo>
                  <a:lnTo>
                    <a:pt x="109" y="136"/>
                  </a:lnTo>
                  <a:close/>
                  <a:moveTo>
                    <a:pt x="189" y="75"/>
                  </a:moveTo>
                  <a:lnTo>
                    <a:pt x="193" y="66"/>
                  </a:lnTo>
                  <a:lnTo>
                    <a:pt x="200" y="61"/>
                  </a:lnTo>
                  <a:lnTo>
                    <a:pt x="211" y="61"/>
                  </a:lnTo>
                  <a:lnTo>
                    <a:pt x="218" y="66"/>
                  </a:lnTo>
                  <a:lnTo>
                    <a:pt x="220" y="75"/>
                  </a:lnTo>
                  <a:lnTo>
                    <a:pt x="218" y="84"/>
                  </a:lnTo>
                  <a:lnTo>
                    <a:pt x="211" y="91"/>
                  </a:lnTo>
                  <a:lnTo>
                    <a:pt x="200" y="91"/>
                  </a:lnTo>
                  <a:lnTo>
                    <a:pt x="193" y="84"/>
                  </a:lnTo>
                  <a:lnTo>
                    <a:pt x="189" y="75"/>
                  </a:lnTo>
                  <a:close/>
                  <a:moveTo>
                    <a:pt x="141" y="75"/>
                  </a:moveTo>
                  <a:lnTo>
                    <a:pt x="146" y="66"/>
                  </a:lnTo>
                  <a:lnTo>
                    <a:pt x="152" y="61"/>
                  </a:lnTo>
                  <a:lnTo>
                    <a:pt x="164" y="61"/>
                  </a:lnTo>
                  <a:lnTo>
                    <a:pt x="171" y="66"/>
                  </a:lnTo>
                  <a:lnTo>
                    <a:pt x="173" y="75"/>
                  </a:lnTo>
                  <a:lnTo>
                    <a:pt x="171" y="84"/>
                  </a:lnTo>
                  <a:lnTo>
                    <a:pt x="164" y="91"/>
                  </a:lnTo>
                  <a:lnTo>
                    <a:pt x="152" y="91"/>
                  </a:lnTo>
                  <a:lnTo>
                    <a:pt x="146" y="84"/>
                  </a:lnTo>
                  <a:lnTo>
                    <a:pt x="141" y="75"/>
                  </a:lnTo>
                  <a:close/>
                  <a:moveTo>
                    <a:pt x="96" y="75"/>
                  </a:moveTo>
                  <a:lnTo>
                    <a:pt x="98" y="66"/>
                  </a:lnTo>
                  <a:lnTo>
                    <a:pt x="105" y="61"/>
                  </a:lnTo>
                  <a:lnTo>
                    <a:pt x="116" y="61"/>
                  </a:lnTo>
                  <a:lnTo>
                    <a:pt x="123" y="66"/>
                  </a:lnTo>
                  <a:lnTo>
                    <a:pt x="125" y="75"/>
                  </a:lnTo>
                  <a:lnTo>
                    <a:pt x="123" y="84"/>
                  </a:lnTo>
                  <a:lnTo>
                    <a:pt x="116" y="91"/>
                  </a:lnTo>
                  <a:lnTo>
                    <a:pt x="105" y="91"/>
                  </a:lnTo>
                  <a:lnTo>
                    <a:pt x="98" y="84"/>
                  </a:lnTo>
                  <a:lnTo>
                    <a:pt x="96" y="75"/>
                  </a:lnTo>
                  <a:close/>
                  <a:moveTo>
                    <a:pt x="48" y="75"/>
                  </a:moveTo>
                  <a:lnTo>
                    <a:pt x="50" y="66"/>
                  </a:lnTo>
                  <a:lnTo>
                    <a:pt x="57" y="61"/>
                  </a:lnTo>
                  <a:lnTo>
                    <a:pt x="68" y="61"/>
                  </a:lnTo>
                  <a:lnTo>
                    <a:pt x="75" y="66"/>
                  </a:lnTo>
                  <a:lnTo>
                    <a:pt x="80" y="75"/>
                  </a:lnTo>
                  <a:lnTo>
                    <a:pt x="75" y="84"/>
                  </a:lnTo>
                  <a:lnTo>
                    <a:pt x="68" y="91"/>
                  </a:lnTo>
                  <a:lnTo>
                    <a:pt x="57" y="91"/>
                  </a:lnTo>
                  <a:lnTo>
                    <a:pt x="50" y="84"/>
                  </a:lnTo>
                  <a:lnTo>
                    <a:pt x="48" y="75"/>
                  </a:lnTo>
                  <a:close/>
                  <a:moveTo>
                    <a:pt x="0" y="75"/>
                  </a:moveTo>
                  <a:lnTo>
                    <a:pt x="3" y="66"/>
                  </a:lnTo>
                  <a:lnTo>
                    <a:pt x="9" y="61"/>
                  </a:lnTo>
                  <a:lnTo>
                    <a:pt x="21" y="61"/>
                  </a:lnTo>
                  <a:lnTo>
                    <a:pt x="28" y="66"/>
                  </a:lnTo>
                  <a:lnTo>
                    <a:pt x="32" y="75"/>
                  </a:lnTo>
                  <a:lnTo>
                    <a:pt x="28" y="84"/>
                  </a:lnTo>
                  <a:lnTo>
                    <a:pt x="21" y="91"/>
                  </a:lnTo>
                  <a:lnTo>
                    <a:pt x="9" y="91"/>
                  </a:lnTo>
                  <a:lnTo>
                    <a:pt x="3" y="84"/>
                  </a:lnTo>
                  <a:lnTo>
                    <a:pt x="0" y="75"/>
                  </a:lnTo>
                  <a:close/>
                  <a:moveTo>
                    <a:pt x="220" y="16"/>
                  </a:moveTo>
                  <a:lnTo>
                    <a:pt x="225" y="7"/>
                  </a:lnTo>
                  <a:lnTo>
                    <a:pt x="232" y="0"/>
                  </a:lnTo>
                  <a:lnTo>
                    <a:pt x="243" y="0"/>
                  </a:lnTo>
                  <a:lnTo>
                    <a:pt x="250" y="7"/>
                  </a:lnTo>
                  <a:lnTo>
                    <a:pt x="252" y="16"/>
                  </a:lnTo>
                  <a:lnTo>
                    <a:pt x="250" y="23"/>
                  </a:lnTo>
                  <a:lnTo>
                    <a:pt x="243" y="30"/>
                  </a:lnTo>
                  <a:lnTo>
                    <a:pt x="232" y="30"/>
                  </a:lnTo>
                  <a:lnTo>
                    <a:pt x="225" y="23"/>
                  </a:lnTo>
                  <a:lnTo>
                    <a:pt x="220" y="16"/>
                  </a:lnTo>
                  <a:close/>
                  <a:moveTo>
                    <a:pt x="173" y="16"/>
                  </a:moveTo>
                  <a:lnTo>
                    <a:pt x="177" y="7"/>
                  </a:lnTo>
                  <a:lnTo>
                    <a:pt x="184" y="0"/>
                  </a:lnTo>
                  <a:lnTo>
                    <a:pt x="195" y="0"/>
                  </a:lnTo>
                  <a:lnTo>
                    <a:pt x="202" y="7"/>
                  </a:lnTo>
                  <a:lnTo>
                    <a:pt x="205" y="16"/>
                  </a:lnTo>
                  <a:lnTo>
                    <a:pt x="202" y="23"/>
                  </a:lnTo>
                  <a:lnTo>
                    <a:pt x="195" y="30"/>
                  </a:lnTo>
                  <a:lnTo>
                    <a:pt x="184" y="30"/>
                  </a:lnTo>
                  <a:lnTo>
                    <a:pt x="177" y="23"/>
                  </a:lnTo>
                  <a:lnTo>
                    <a:pt x="173" y="16"/>
                  </a:lnTo>
                  <a:close/>
                  <a:moveTo>
                    <a:pt x="125" y="16"/>
                  </a:moveTo>
                  <a:lnTo>
                    <a:pt x="130" y="7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5" y="7"/>
                  </a:lnTo>
                  <a:lnTo>
                    <a:pt x="157" y="16"/>
                  </a:lnTo>
                  <a:lnTo>
                    <a:pt x="155" y="23"/>
                  </a:lnTo>
                  <a:lnTo>
                    <a:pt x="148" y="30"/>
                  </a:lnTo>
                  <a:lnTo>
                    <a:pt x="136" y="30"/>
                  </a:lnTo>
                  <a:lnTo>
                    <a:pt x="130" y="23"/>
                  </a:lnTo>
                  <a:lnTo>
                    <a:pt x="125" y="16"/>
                  </a:lnTo>
                  <a:close/>
                  <a:moveTo>
                    <a:pt x="80" y="16"/>
                  </a:moveTo>
                  <a:lnTo>
                    <a:pt x="82" y="7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07" y="7"/>
                  </a:lnTo>
                  <a:lnTo>
                    <a:pt x="109" y="16"/>
                  </a:lnTo>
                  <a:lnTo>
                    <a:pt x="107" y="23"/>
                  </a:lnTo>
                  <a:lnTo>
                    <a:pt x="100" y="30"/>
                  </a:lnTo>
                  <a:lnTo>
                    <a:pt x="89" y="30"/>
                  </a:lnTo>
                  <a:lnTo>
                    <a:pt x="82" y="23"/>
                  </a:lnTo>
                  <a:lnTo>
                    <a:pt x="80" y="16"/>
                  </a:lnTo>
                  <a:close/>
                  <a:moveTo>
                    <a:pt x="32" y="16"/>
                  </a:moveTo>
                  <a:lnTo>
                    <a:pt x="34" y="7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59" y="23"/>
                  </a:lnTo>
                  <a:lnTo>
                    <a:pt x="53" y="30"/>
                  </a:lnTo>
                  <a:lnTo>
                    <a:pt x="41" y="30"/>
                  </a:lnTo>
                  <a:lnTo>
                    <a:pt x="34" y="23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08840" y="4844520"/>
              <a:ext cx="3247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26400" y="4572000"/>
              <a:ext cx="658800" cy="272520"/>
            </a:xfrm>
            <a:custGeom>
              <a:avLst/>
              <a:gdLst/>
              <a:ahLst/>
              <a:rect l="l" t="t" r="r" b="b"/>
              <a:pathLst>
                <a:path w="511" h="362">
                  <a:moveTo>
                    <a:pt x="191" y="120"/>
                  </a:moveTo>
                  <a:lnTo>
                    <a:pt x="128" y="59"/>
                  </a:lnTo>
                  <a:lnTo>
                    <a:pt x="0" y="303"/>
                  </a:lnTo>
                  <a:lnTo>
                    <a:pt x="64" y="362"/>
                  </a:lnTo>
                  <a:lnTo>
                    <a:pt x="191" y="120"/>
                  </a:lnTo>
                  <a:close/>
                  <a:moveTo>
                    <a:pt x="443" y="120"/>
                  </a:moveTo>
                  <a:lnTo>
                    <a:pt x="475" y="0"/>
                  </a:lnTo>
                  <a:lnTo>
                    <a:pt x="223" y="0"/>
                  </a:lnTo>
                  <a:lnTo>
                    <a:pt x="191" y="120"/>
                  </a:lnTo>
                  <a:lnTo>
                    <a:pt x="443" y="120"/>
                  </a:lnTo>
                  <a:close/>
                  <a:moveTo>
                    <a:pt x="316" y="362"/>
                  </a:moveTo>
                  <a:lnTo>
                    <a:pt x="407" y="272"/>
                  </a:lnTo>
                  <a:lnTo>
                    <a:pt x="511" y="59"/>
                  </a:lnTo>
                  <a:lnTo>
                    <a:pt x="443" y="120"/>
                  </a:lnTo>
                  <a:lnTo>
                    <a:pt x="316" y="36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67440" y="4662360"/>
              <a:ext cx="529560" cy="549360"/>
            </a:xfrm>
            <a:custGeom>
              <a:avLst/>
              <a:gdLst/>
              <a:ahLst/>
              <a:rect l="l" t="t" r="r" b="b"/>
              <a:pathLst>
                <a:path w="411" h="729">
                  <a:moveTo>
                    <a:pt x="32" y="242"/>
                  </a:moveTo>
                  <a:lnTo>
                    <a:pt x="0" y="122"/>
                  </a:lnTo>
                  <a:lnTo>
                    <a:pt x="245" y="122"/>
                  </a:lnTo>
                  <a:lnTo>
                    <a:pt x="284" y="242"/>
                  </a:lnTo>
                  <a:lnTo>
                    <a:pt x="32" y="242"/>
                  </a:lnTo>
                  <a:close/>
                  <a:moveTo>
                    <a:pt x="284" y="729"/>
                  </a:moveTo>
                  <a:lnTo>
                    <a:pt x="411" y="484"/>
                  </a:lnTo>
                  <a:lnTo>
                    <a:pt x="411" y="0"/>
                  </a:lnTo>
                  <a:lnTo>
                    <a:pt x="284" y="242"/>
                  </a:lnTo>
                  <a:lnTo>
                    <a:pt x="284" y="7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77800" y="4689360"/>
            <a:ext cx="443160" cy="636840"/>
          </a:xfrm>
          <a:custGeom>
            <a:avLst/>
            <a:gdLst/>
            <a:ahLst/>
            <a:rect l="l" t="t" r="r" b="b"/>
            <a:pathLst>
              <a:path w="343" h="845">
                <a:moveTo>
                  <a:pt x="191" y="807"/>
                </a:moveTo>
                <a:lnTo>
                  <a:pt x="193" y="823"/>
                </a:lnTo>
                <a:lnTo>
                  <a:pt x="200" y="836"/>
                </a:lnTo>
                <a:lnTo>
                  <a:pt x="214" y="843"/>
                </a:lnTo>
                <a:lnTo>
                  <a:pt x="227" y="845"/>
                </a:lnTo>
                <a:lnTo>
                  <a:pt x="236" y="845"/>
                </a:lnTo>
                <a:lnTo>
                  <a:pt x="252" y="843"/>
                </a:lnTo>
                <a:lnTo>
                  <a:pt x="264" y="836"/>
                </a:lnTo>
                <a:lnTo>
                  <a:pt x="273" y="823"/>
                </a:lnTo>
                <a:lnTo>
                  <a:pt x="275" y="807"/>
                </a:lnTo>
                <a:lnTo>
                  <a:pt x="275" y="495"/>
                </a:lnTo>
                <a:lnTo>
                  <a:pt x="275" y="251"/>
                </a:lnTo>
                <a:lnTo>
                  <a:pt x="277" y="244"/>
                </a:lnTo>
                <a:lnTo>
                  <a:pt x="284" y="242"/>
                </a:lnTo>
                <a:lnTo>
                  <a:pt x="291" y="244"/>
                </a:lnTo>
                <a:lnTo>
                  <a:pt x="293" y="251"/>
                </a:lnTo>
                <a:lnTo>
                  <a:pt x="293" y="477"/>
                </a:lnTo>
                <a:lnTo>
                  <a:pt x="295" y="490"/>
                </a:lnTo>
                <a:lnTo>
                  <a:pt x="304" y="499"/>
                </a:lnTo>
                <a:lnTo>
                  <a:pt x="318" y="504"/>
                </a:lnTo>
                <a:lnTo>
                  <a:pt x="332" y="499"/>
                </a:lnTo>
                <a:lnTo>
                  <a:pt x="341" y="490"/>
                </a:lnTo>
                <a:lnTo>
                  <a:pt x="343" y="477"/>
                </a:lnTo>
                <a:lnTo>
                  <a:pt x="343" y="208"/>
                </a:lnTo>
                <a:lnTo>
                  <a:pt x="341" y="196"/>
                </a:lnTo>
                <a:lnTo>
                  <a:pt x="332" y="185"/>
                </a:lnTo>
                <a:lnTo>
                  <a:pt x="318" y="180"/>
                </a:lnTo>
                <a:lnTo>
                  <a:pt x="25" y="180"/>
                </a:lnTo>
                <a:lnTo>
                  <a:pt x="14" y="185"/>
                </a:lnTo>
                <a:lnTo>
                  <a:pt x="3" y="196"/>
                </a:lnTo>
                <a:lnTo>
                  <a:pt x="0" y="208"/>
                </a:lnTo>
                <a:lnTo>
                  <a:pt x="0" y="477"/>
                </a:lnTo>
                <a:lnTo>
                  <a:pt x="3" y="490"/>
                </a:lnTo>
                <a:lnTo>
                  <a:pt x="14" y="499"/>
                </a:lnTo>
                <a:lnTo>
                  <a:pt x="25" y="504"/>
                </a:lnTo>
                <a:lnTo>
                  <a:pt x="39" y="499"/>
                </a:lnTo>
                <a:lnTo>
                  <a:pt x="48" y="490"/>
                </a:lnTo>
                <a:lnTo>
                  <a:pt x="52" y="477"/>
                </a:lnTo>
                <a:lnTo>
                  <a:pt x="52" y="251"/>
                </a:lnTo>
                <a:lnTo>
                  <a:pt x="55" y="244"/>
                </a:lnTo>
                <a:lnTo>
                  <a:pt x="59" y="242"/>
                </a:lnTo>
                <a:lnTo>
                  <a:pt x="66" y="244"/>
                </a:lnTo>
                <a:lnTo>
                  <a:pt x="68" y="251"/>
                </a:lnTo>
                <a:lnTo>
                  <a:pt x="68" y="495"/>
                </a:lnTo>
                <a:lnTo>
                  <a:pt x="68" y="807"/>
                </a:lnTo>
                <a:lnTo>
                  <a:pt x="71" y="823"/>
                </a:lnTo>
                <a:lnTo>
                  <a:pt x="82" y="834"/>
                </a:lnTo>
                <a:lnTo>
                  <a:pt x="91" y="841"/>
                </a:lnTo>
                <a:lnTo>
                  <a:pt x="109" y="845"/>
                </a:lnTo>
                <a:lnTo>
                  <a:pt x="118" y="845"/>
                </a:lnTo>
                <a:lnTo>
                  <a:pt x="134" y="841"/>
                </a:lnTo>
                <a:lnTo>
                  <a:pt x="146" y="834"/>
                </a:lnTo>
                <a:lnTo>
                  <a:pt x="155" y="823"/>
                </a:lnTo>
                <a:lnTo>
                  <a:pt x="155" y="807"/>
                </a:lnTo>
                <a:lnTo>
                  <a:pt x="155" y="513"/>
                </a:lnTo>
                <a:lnTo>
                  <a:pt x="157" y="504"/>
                </a:lnTo>
                <a:lnTo>
                  <a:pt x="164" y="497"/>
                </a:lnTo>
                <a:lnTo>
                  <a:pt x="173" y="495"/>
                </a:lnTo>
                <a:lnTo>
                  <a:pt x="182" y="497"/>
                </a:lnTo>
                <a:lnTo>
                  <a:pt x="189" y="504"/>
                </a:lnTo>
                <a:lnTo>
                  <a:pt x="191" y="513"/>
                </a:lnTo>
                <a:lnTo>
                  <a:pt x="191" y="807"/>
                </a:lnTo>
                <a:close/>
                <a:moveTo>
                  <a:pt x="96" y="81"/>
                </a:moveTo>
                <a:lnTo>
                  <a:pt x="98" y="56"/>
                </a:lnTo>
                <a:lnTo>
                  <a:pt x="111" y="33"/>
                </a:lnTo>
                <a:lnTo>
                  <a:pt x="127" y="15"/>
                </a:lnTo>
                <a:lnTo>
                  <a:pt x="150" y="4"/>
                </a:lnTo>
                <a:lnTo>
                  <a:pt x="173" y="0"/>
                </a:lnTo>
                <a:lnTo>
                  <a:pt x="195" y="4"/>
                </a:lnTo>
                <a:lnTo>
                  <a:pt x="218" y="15"/>
                </a:lnTo>
                <a:lnTo>
                  <a:pt x="234" y="33"/>
                </a:lnTo>
                <a:lnTo>
                  <a:pt x="245" y="56"/>
                </a:lnTo>
                <a:lnTo>
                  <a:pt x="248" y="81"/>
                </a:lnTo>
                <a:lnTo>
                  <a:pt x="245" y="106"/>
                </a:lnTo>
                <a:lnTo>
                  <a:pt x="234" y="128"/>
                </a:lnTo>
                <a:lnTo>
                  <a:pt x="218" y="147"/>
                </a:lnTo>
                <a:lnTo>
                  <a:pt x="195" y="158"/>
                </a:lnTo>
                <a:lnTo>
                  <a:pt x="173" y="162"/>
                </a:lnTo>
                <a:lnTo>
                  <a:pt x="150" y="158"/>
                </a:lnTo>
                <a:lnTo>
                  <a:pt x="127" y="147"/>
                </a:lnTo>
                <a:lnTo>
                  <a:pt x="111" y="128"/>
                </a:lnTo>
                <a:lnTo>
                  <a:pt x="98" y="106"/>
                </a:lnTo>
                <a:lnTo>
                  <a:pt x="96" y="8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/>
          <p:nvPr/>
        </p:nvCxnSpPr>
        <p:spPr>
          <a:xfrm rot="5400000">
            <a:off x="4938840" y="2742480"/>
            <a:ext cx="2160" cy="6471360"/>
          </a:xfrm>
          <a:prstGeom prst="bentConnector3">
            <a:avLst>
              <a:gd name="adj1" fmla="val 22280000"/>
            </a:avLst>
          </a:prstGeom>
          <a:ln w="12600">
            <a:solidFill>
              <a:srgbClr val="00cc00"/>
            </a:solidFill>
            <a:miter/>
            <a:tailEnd len="med" type="triangle" w="med"/>
          </a:ln>
        </p:spPr>
      </p:cxnSp>
      <p:grpSp>
        <p:nvGrpSpPr>
          <p:cNvPr id="228" name=""/>
          <p:cNvGrpSpPr/>
          <p:nvPr/>
        </p:nvGrpSpPr>
        <p:grpSpPr>
          <a:xfrm>
            <a:off x="4003560" y="4600440"/>
            <a:ext cx="614520" cy="235080"/>
            <a:chOff x="4003560" y="4600440"/>
            <a:chExt cx="614520" cy="235080"/>
          </a:xfrm>
        </p:grpSpPr>
        <p:sp>
          <p:nvSpPr>
            <p:cNvPr id="229" name=""/>
            <p:cNvSpPr/>
            <p:nvPr/>
          </p:nvSpPr>
          <p:spPr>
            <a:xfrm>
              <a:off x="4003560" y="4600440"/>
              <a:ext cx="34128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44840" y="4600440"/>
              <a:ext cx="273240" cy="23508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31880" y="4600440"/>
            <a:ext cx="614520" cy="235080"/>
            <a:chOff x="5231880" y="4600440"/>
            <a:chExt cx="614520" cy="235080"/>
          </a:xfrm>
        </p:grpSpPr>
        <p:sp>
          <p:nvSpPr>
            <p:cNvPr id="232" name=""/>
            <p:cNvSpPr/>
            <p:nvPr/>
          </p:nvSpPr>
          <p:spPr>
            <a:xfrm flipH="1">
              <a:off x="5505120" y="4600440"/>
              <a:ext cx="34128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231880" y="4600440"/>
              <a:ext cx="273240" cy="23508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003560" y="5486400"/>
            <a:ext cx="614520" cy="304560"/>
            <a:chOff x="4003560" y="5486400"/>
            <a:chExt cx="614520" cy="304560"/>
          </a:xfrm>
        </p:grpSpPr>
        <p:sp>
          <p:nvSpPr>
            <p:cNvPr id="235" name=""/>
            <p:cNvSpPr/>
            <p:nvPr/>
          </p:nvSpPr>
          <p:spPr>
            <a:xfrm>
              <a:off x="4003560" y="5790960"/>
              <a:ext cx="34128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44840" y="5486400"/>
              <a:ext cx="273240" cy="3045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31880" y="5486400"/>
            <a:ext cx="614520" cy="304560"/>
            <a:chOff x="5231880" y="5486400"/>
            <a:chExt cx="614520" cy="304560"/>
          </a:xfrm>
        </p:grpSpPr>
        <p:sp>
          <p:nvSpPr>
            <p:cNvPr id="238" name=""/>
            <p:cNvSpPr/>
            <p:nvPr/>
          </p:nvSpPr>
          <p:spPr>
            <a:xfrm flipH="1">
              <a:off x="5505120" y="5790960"/>
              <a:ext cx="34128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231880" y="5486400"/>
              <a:ext cx="273240" cy="3045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160720" y="4659480"/>
            <a:ext cx="1842840" cy="291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cc"/>
                </a:solidFill>
                <a:latin typeface="굴림"/>
                <a:ea typeface="으뜸체"/>
              </a:rPr>
              <a:t>전략</a:t>
            </a:r>
            <a:r>
              <a:rPr b="0" lang="ko-KR" sz="1600" spc="-1" strike="noStrike">
                <a:solidFill>
                  <a:srgbClr val="6600cc"/>
                </a:solidFill>
                <a:latin typeface="굴림"/>
                <a:ea typeface="으뜸체"/>
              </a:rPr>
              <a:t>, </a:t>
            </a:r>
            <a:r>
              <a:rPr b="0" lang="ko-KR" sz="1600" spc="-1" strike="noStrike">
                <a:solidFill>
                  <a:srgbClr val="6600cc"/>
                </a:solidFill>
                <a:latin typeface="굴림"/>
                <a:ea typeface="으뜸체"/>
              </a:rPr>
              <a:t>리더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60720" y="4191120"/>
            <a:ext cx="1842840" cy="468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  <a:ea typeface="으뜸체"/>
              </a:rPr>
              <a:t>KM</a:t>
            </a: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전략 주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지식창조 활성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46760" y="4659480"/>
            <a:ext cx="1843200" cy="291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cc"/>
                </a:solidFill>
                <a:latin typeface="굴림"/>
                <a:ea typeface="으뜸체"/>
              </a:rPr>
              <a:t>조직 문화</a:t>
            </a:r>
            <a:r>
              <a:rPr b="0" lang="en-US" sz="1600" spc="-1" strike="noStrike">
                <a:solidFill>
                  <a:srgbClr val="6600cc"/>
                </a:solidFill>
                <a:latin typeface="굴림"/>
                <a:ea typeface="으뜸체"/>
              </a:rPr>
              <a:t>·</a:t>
            </a:r>
            <a:r>
              <a:rPr b="0" lang="zh-CN" sz="1600" spc="-1" strike="noStrike">
                <a:solidFill>
                  <a:srgbClr val="6600cc"/>
                </a:solidFill>
                <a:latin typeface="굴림"/>
                <a:ea typeface="으뜸체"/>
              </a:rPr>
              <a:t>구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46760" y="4191120"/>
            <a:ext cx="1843200" cy="468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조직 학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협력적인 업무수행체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60720" y="5257800"/>
            <a:ext cx="1842840" cy="291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cc"/>
                </a:solidFill>
                <a:latin typeface="굴림"/>
                <a:ea typeface="으뜸체"/>
              </a:rPr>
              <a:t>정보 기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0720" y="5549760"/>
            <a:ext cx="1842840" cy="468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지식 획득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  <a:ea typeface="으뜸체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공유</a:t>
            </a:r>
            <a:r>
              <a:rPr b="0" lang="en-US" sz="1400" spc="-1" strike="noStrike">
                <a:solidFill>
                  <a:srgbClr val="ffffff"/>
                </a:solidFill>
                <a:latin typeface="굴림"/>
                <a:ea typeface="으뜸체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활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의사 결정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46760" y="5257800"/>
            <a:ext cx="1843200" cy="291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cc"/>
                </a:solidFill>
                <a:latin typeface="굴림"/>
                <a:ea typeface="으뜸체"/>
              </a:rPr>
              <a:t>측정</a:t>
            </a:r>
            <a:r>
              <a:rPr b="0" lang="en-US" sz="1600" spc="-1" strike="noStrike">
                <a:solidFill>
                  <a:srgbClr val="6600cc"/>
                </a:solidFill>
                <a:latin typeface="굴림"/>
                <a:ea typeface="으뜸체"/>
              </a:rPr>
              <a:t>·</a:t>
            </a:r>
            <a:r>
              <a:rPr b="0" lang="zh-CN" sz="1600" spc="-1" strike="noStrike">
                <a:solidFill>
                  <a:srgbClr val="6600cc"/>
                </a:solidFill>
                <a:latin typeface="굴림"/>
                <a:ea typeface="으뜸체"/>
              </a:rPr>
              <a:t>보상 시스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46760" y="5549760"/>
            <a:ext cx="1843200" cy="468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  <a:ea typeface="으뜸체"/>
              </a:rPr>
              <a:t>KM </a:t>
            </a: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체제 평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지식 공유 촉진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38600" y="4572000"/>
            <a:ext cx="878040" cy="819000"/>
          </a:xfrm>
          <a:custGeom>
            <a:avLst/>
            <a:gdLst/>
            <a:ahLst/>
            <a:rect l="l" t="t" r="r" b="b"/>
            <a:pathLst>
              <a:path w="617" h="672">
                <a:moveTo>
                  <a:pt x="176" y="77"/>
                </a:moveTo>
                <a:lnTo>
                  <a:pt x="176" y="0"/>
                </a:lnTo>
                <a:lnTo>
                  <a:pt x="108" y="82"/>
                </a:lnTo>
                <a:lnTo>
                  <a:pt x="0" y="211"/>
                </a:lnTo>
                <a:lnTo>
                  <a:pt x="70" y="293"/>
                </a:lnTo>
                <a:lnTo>
                  <a:pt x="176" y="414"/>
                </a:lnTo>
                <a:lnTo>
                  <a:pt x="176" y="269"/>
                </a:lnTo>
                <a:lnTo>
                  <a:pt x="210" y="272"/>
                </a:lnTo>
                <a:lnTo>
                  <a:pt x="246" y="279"/>
                </a:lnTo>
                <a:lnTo>
                  <a:pt x="279" y="292"/>
                </a:lnTo>
                <a:lnTo>
                  <a:pt x="309" y="308"/>
                </a:lnTo>
                <a:lnTo>
                  <a:pt x="336" y="328"/>
                </a:lnTo>
                <a:lnTo>
                  <a:pt x="361" y="352"/>
                </a:lnTo>
                <a:lnTo>
                  <a:pt x="382" y="380"/>
                </a:lnTo>
                <a:lnTo>
                  <a:pt x="399" y="410"/>
                </a:lnTo>
                <a:lnTo>
                  <a:pt x="411" y="442"/>
                </a:lnTo>
                <a:lnTo>
                  <a:pt x="419" y="475"/>
                </a:lnTo>
                <a:lnTo>
                  <a:pt x="421" y="509"/>
                </a:lnTo>
                <a:lnTo>
                  <a:pt x="420" y="528"/>
                </a:lnTo>
                <a:lnTo>
                  <a:pt x="419" y="546"/>
                </a:lnTo>
                <a:lnTo>
                  <a:pt x="529" y="529"/>
                </a:lnTo>
                <a:lnTo>
                  <a:pt x="585" y="672"/>
                </a:lnTo>
                <a:lnTo>
                  <a:pt x="600" y="632"/>
                </a:lnTo>
                <a:lnTo>
                  <a:pt x="609" y="592"/>
                </a:lnTo>
                <a:lnTo>
                  <a:pt x="614" y="552"/>
                </a:lnTo>
                <a:lnTo>
                  <a:pt x="617" y="509"/>
                </a:lnTo>
                <a:lnTo>
                  <a:pt x="614" y="465"/>
                </a:lnTo>
                <a:lnTo>
                  <a:pt x="606" y="420"/>
                </a:lnTo>
                <a:lnTo>
                  <a:pt x="595" y="376"/>
                </a:lnTo>
                <a:lnTo>
                  <a:pt x="579" y="334"/>
                </a:lnTo>
                <a:lnTo>
                  <a:pt x="557" y="293"/>
                </a:lnTo>
                <a:lnTo>
                  <a:pt x="532" y="255"/>
                </a:lnTo>
                <a:lnTo>
                  <a:pt x="504" y="220"/>
                </a:lnTo>
                <a:lnTo>
                  <a:pt x="471" y="189"/>
                </a:lnTo>
                <a:lnTo>
                  <a:pt x="435" y="160"/>
                </a:lnTo>
                <a:lnTo>
                  <a:pt x="396" y="134"/>
                </a:lnTo>
                <a:lnTo>
                  <a:pt x="356" y="114"/>
                </a:lnTo>
                <a:lnTo>
                  <a:pt x="313" y="98"/>
                </a:lnTo>
                <a:lnTo>
                  <a:pt x="268" y="87"/>
                </a:lnTo>
                <a:lnTo>
                  <a:pt x="221" y="79"/>
                </a:lnTo>
                <a:lnTo>
                  <a:pt x="176" y="77"/>
                </a:lnTo>
                <a:close/>
              </a:path>
            </a:pathLst>
          </a:custGeom>
          <a:solidFill>
            <a:srgbClr val="00cc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25840" y="5218200"/>
            <a:ext cx="1103400" cy="501480"/>
          </a:xfrm>
          <a:custGeom>
            <a:avLst/>
            <a:gdLst/>
            <a:ahLst/>
            <a:rect l="l" t="t" r="r" b="b"/>
            <a:pathLst>
              <a:path w="776" h="412">
                <a:moveTo>
                  <a:pt x="702" y="206"/>
                </a:moveTo>
                <a:lnTo>
                  <a:pt x="776" y="250"/>
                </a:lnTo>
                <a:lnTo>
                  <a:pt x="735" y="143"/>
                </a:lnTo>
                <a:lnTo>
                  <a:pt x="679" y="0"/>
                </a:lnTo>
                <a:lnTo>
                  <a:pt x="569" y="17"/>
                </a:lnTo>
                <a:lnTo>
                  <a:pt x="425" y="39"/>
                </a:lnTo>
                <a:lnTo>
                  <a:pt x="536" y="105"/>
                </a:lnTo>
                <a:lnTo>
                  <a:pt x="515" y="132"/>
                </a:lnTo>
                <a:lnTo>
                  <a:pt x="494" y="156"/>
                </a:lnTo>
                <a:lnTo>
                  <a:pt x="468" y="176"/>
                </a:lnTo>
                <a:lnTo>
                  <a:pt x="440" y="194"/>
                </a:lnTo>
                <a:lnTo>
                  <a:pt x="410" y="208"/>
                </a:lnTo>
                <a:lnTo>
                  <a:pt x="379" y="216"/>
                </a:lnTo>
                <a:lnTo>
                  <a:pt x="344" y="220"/>
                </a:lnTo>
                <a:lnTo>
                  <a:pt x="311" y="221"/>
                </a:lnTo>
                <a:lnTo>
                  <a:pt x="279" y="216"/>
                </a:lnTo>
                <a:lnTo>
                  <a:pt x="246" y="209"/>
                </a:lnTo>
                <a:lnTo>
                  <a:pt x="216" y="195"/>
                </a:lnTo>
                <a:lnTo>
                  <a:pt x="188" y="179"/>
                </a:lnTo>
                <a:lnTo>
                  <a:pt x="161" y="159"/>
                </a:lnTo>
                <a:lnTo>
                  <a:pt x="110" y="288"/>
                </a:lnTo>
                <a:lnTo>
                  <a:pt x="0" y="272"/>
                </a:lnTo>
                <a:lnTo>
                  <a:pt x="33" y="303"/>
                </a:lnTo>
                <a:lnTo>
                  <a:pt x="69" y="331"/>
                </a:lnTo>
                <a:lnTo>
                  <a:pt x="108" y="357"/>
                </a:lnTo>
                <a:lnTo>
                  <a:pt x="148" y="376"/>
                </a:lnTo>
                <a:lnTo>
                  <a:pt x="190" y="391"/>
                </a:lnTo>
                <a:lnTo>
                  <a:pt x="234" y="404"/>
                </a:lnTo>
                <a:lnTo>
                  <a:pt x="279" y="410"/>
                </a:lnTo>
                <a:lnTo>
                  <a:pt x="324" y="412"/>
                </a:lnTo>
                <a:lnTo>
                  <a:pt x="369" y="410"/>
                </a:lnTo>
                <a:lnTo>
                  <a:pt x="414" y="405"/>
                </a:lnTo>
                <a:lnTo>
                  <a:pt x="459" y="392"/>
                </a:lnTo>
                <a:lnTo>
                  <a:pt x="500" y="377"/>
                </a:lnTo>
                <a:lnTo>
                  <a:pt x="541" y="358"/>
                </a:lnTo>
                <a:lnTo>
                  <a:pt x="580" y="333"/>
                </a:lnTo>
                <a:lnTo>
                  <a:pt x="615" y="308"/>
                </a:lnTo>
                <a:lnTo>
                  <a:pt x="647" y="275"/>
                </a:lnTo>
                <a:lnTo>
                  <a:pt x="677" y="242"/>
                </a:lnTo>
                <a:lnTo>
                  <a:pt x="702" y="206"/>
                </a:lnTo>
                <a:close/>
              </a:path>
            </a:pathLst>
          </a:custGeom>
          <a:solidFill>
            <a:srgbClr val="6699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4000" y="4672080"/>
            <a:ext cx="598680" cy="896760"/>
          </a:xfrm>
          <a:custGeom>
            <a:avLst/>
            <a:gdLst/>
            <a:ahLst/>
            <a:rect l="l" t="t" r="r" b="b"/>
            <a:pathLst>
              <a:path w="421" h="735">
                <a:moveTo>
                  <a:pt x="103" y="638"/>
                </a:moveTo>
                <a:lnTo>
                  <a:pt x="0" y="697"/>
                </a:lnTo>
                <a:lnTo>
                  <a:pt x="163" y="719"/>
                </a:lnTo>
                <a:lnTo>
                  <a:pt x="273" y="735"/>
                </a:lnTo>
                <a:lnTo>
                  <a:pt x="324" y="606"/>
                </a:lnTo>
                <a:lnTo>
                  <a:pt x="372" y="486"/>
                </a:lnTo>
                <a:lnTo>
                  <a:pt x="272" y="541"/>
                </a:lnTo>
                <a:lnTo>
                  <a:pt x="260" y="515"/>
                </a:lnTo>
                <a:lnTo>
                  <a:pt x="252" y="486"/>
                </a:lnTo>
                <a:lnTo>
                  <a:pt x="247" y="457"/>
                </a:lnTo>
                <a:lnTo>
                  <a:pt x="243" y="427"/>
                </a:lnTo>
                <a:lnTo>
                  <a:pt x="247" y="394"/>
                </a:lnTo>
                <a:lnTo>
                  <a:pt x="255" y="362"/>
                </a:lnTo>
                <a:lnTo>
                  <a:pt x="266" y="329"/>
                </a:lnTo>
                <a:lnTo>
                  <a:pt x="282" y="300"/>
                </a:lnTo>
                <a:lnTo>
                  <a:pt x="303" y="272"/>
                </a:lnTo>
                <a:lnTo>
                  <a:pt x="327" y="249"/>
                </a:lnTo>
                <a:lnTo>
                  <a:pt x="354" y="227"/>
                </a:lnTo>
                <a:lnTo>
                  <a:pt x="383" y="211"/>
                </a:lnTo>
                <a:lnTo>
                  <a:pt x="313" y="129"/>
                </a:lnTo>
                <a:lnTo>
                  <a:pt x="421" y="0"/>
                </a:lnTo>
                <a:lnTo>
                  <a:pt x="377" y="10"/>
                </a:lnTo>
                <a:lnTo>
                  <a:pt x="334" y="22"/>
                </a:lnTo>
                <a:lnTo>
                  <a:pt x="295" y="40"/>
                </a:lnTo>
                <a:lnTo>
                  <a:pt x="255" y="61"/>
                </a:lnTo>
                <a:lnTo>
                  <a:pt x="220" y="86"/>
                </a:lnTo>
                <a:lnTo>
                  <a:pt x="186" y="115"/>
                </a:lnTo>
                <a:lnTo>
                  <a:pt x="153" y="147"/>
                </a:lnTo>
                <a:lnTo>
                  <a:pt x="127" y="181"/>
                </a:lnTo>
                <a:lnTo>
                  <a:pt x="103" y="218"/>
                </a:lnTo>
                <a:lnTo>
                  <a:pt x="83" y="257"/>
                </a:lnTo>
                <a:lnTo>
                  <a:pt x="68" y="299"/>
                </a:lnTo>
                <a:lnTo>
                  <a:pt x="57" y="342"/>
                </a:lnTo>
                <a:lnTo>
                  <a:pt x="51" y="384"/>
                </a:lnTo>
                <a:lnTo>
                  <a:pt x="48" y="427"/>
                </a:lnTo>
                <a:lnTo>
                  <a:pt x="51" y="471"/>
                </a:lnTo>
                <a:lnTo>
                  <a:pt x="57" y="515"/>
                </a:lnTo>
                <a:lnTo>
                  <a:pt x="68" y="558"/>
                </a:lnTo>
                <a:lnTo>
                  <a:pt x="83" y="597"/>
                </a:lnTo>
                <a:lnTo>
                  <a:pt x="103" y="638"/>
                </a:lnTo>
                <a:close/>
              </a:path>
            </a:pathLst>
          </a:custGeom>
          <a:solidFill>
            <a:srgbClr val="cccc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19640" y="5079960"/>
            <a:ext cx="1836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으뜸체"/>
              </a:rPr>
              <a:t>획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10320" y="5472000"/>
            <a:ext cx="1836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으뜸체"/>
              </a:rPr>
              <a:t>축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22880" y="4881600"/>
            <a:ext cx="1836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으뜸체"/>
              </a:rPr>
              <a:t>활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54520" y="5079960"/>
            <a:ext cx="2732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핵심역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굴림"/>
                <a:ea typeface="으뜸체"/>
              </a:rPr>
              <a:t>지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587D-52B5-486B-92F7-DF29A9FCDD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7800" y="3808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전개형 추진 방법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추진 전략 측면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600200"/>
            <a:ext cx="2743200" cy="380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유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600200"/>
            <a:ext cx="5638680" cy="380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내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1337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1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구조화 지식의 재사용 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1337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시간 및 자원 사용의 효율화를 목적으로 재사용을 강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 설계도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프로젝트 제안서 및 보고서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무 매뉴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8195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실행 경험의 공유 전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28195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업무 수행으로 얻은 경험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Know-how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를 공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직접 대면 방식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회의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)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그룹웨어 활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35053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3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문가 네트워크 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5053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을 갖고 있는 사람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문가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과 지식을 필요로 하는 사람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용자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를 인식하고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이들을 상호 연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1911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4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성과 개선 목적용 지식 관리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체제 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41911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업 프로젝트나 제조 공정 등의 업무 단계별 지식 정의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신제품 개발 프로세스 또는 공정 재설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48769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5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식 가치 측정 및 관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48769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특허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지적 재산권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라이센스와 같은 지적 재산의 관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신제품 개발 프로세스 또는 공정 재설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56272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6.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외 정보의 종합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공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562720"/>
            <a:ext cx="5638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으뜸체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사외에 존재하는 지식을 수집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종합하여 제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매경 지식 주간 세미나 - 현대경제연구원 이장균 (2000. 11. 2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90FA-FA5A-43AC-B48F-ED4C53789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7:17Z</dcterms:created>
  <dc:creator>이장균</dc:creator>
  <dc:description/>
  <dc:language>en-US</dc:language>
  <cp:lastModifiedBy>윤운락</cp:lastModifiedBy>
  <cp:lastPrinted>2000-10-30T06:31:28Z</cp:lastPrinted>
  <dcterms:modified xsi:type="dcterms:W3CDTF">2000-10-30T06:44:15Z</dcterms:modified>
  <cp:revision>510</cp:revision>
  <dc:subject/>
  <dc:title>Knowledger Management Systems</dc:title>
</cp:coreProperties>
</file>