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3C67-716A-47D1-924D-54319DA58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9256-ADA0-4C5D-BEE0-68CC17479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088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088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16C9-2DD4-4E8F-87E4-D9B3E455C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672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360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672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360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A98E-2286-481F-B319-5E1F14BDF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088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9270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088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7FC67-0C82-42F4-A5AF-11CBEDB4A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088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088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088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936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088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088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672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83600" y="106668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672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83600" y="36936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84776-6723-43F0-80DF-A5B5D7CB4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088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DD90-C5D1-486E-B00B-8B48E4F05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990B-B2A8-46F3-86F0-D5ABA7A30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9270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003C-6D7B-461C-B9EC-B4F3EFBB0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088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F003-2C64-4E12-8DC0-20255015A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088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0880" y="36936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8498-CF15-4E03-B6D6-2A1DF7D79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0880" y="106668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936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FD9C0-6E42-428E-976B-0C32D03D1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Click to edit the title text format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cc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0000cc"/>
              </a:buClr>
              <a:buFont typeface="으뜸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0000cc"/>
              </a:buClr>
              <a:buFont typeface="으뜸체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으뜸체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으뜸체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4880" y="6477120"/>
            <a:ext cx="26413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으뜸체"/>
                <a:ea typeface="으뜸체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&lt;footer&gt;</a:t>
            </a:r>
            <a:r>
              <a:rPr b="0" lang="ko-KR" sz="1400" spc="-1" strike="noStrike">
                <a:solidFill>
                  <a:srgbClr val="000000"/>
                </a:solidFill>
                <a:latin typeface="으뜸체"/>
                <a:ea typeface="으뜸체"/>
              </a:rPr>
              <a:t>현대경제연구원 윤운락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433840" y="6477120"/>
            <a:ext cx="438480" cy="30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으뜸체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06BF-4451-4A79-B5A0-8BB8F441B879}" type="slidenum">
              <a:rPr b="1" lang="en-US" sz="1400" spc="-1" strike="noStrike">
                <a:solidFill>
                  <a:srgbClr val="ffffff"/>
                </a:solidFill>
                <a:latin typeface="Arial"/>
                <a:ea typeface="으뜸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220680" y="6400800"/>
            <a:ext cx="5651640" cy="76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d1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066680"/>
            <a:ext cx="9429840" cy="76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d1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91440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으뜸체"/>
              </a:rPr>
              <a:t>Click to edit the title text format</a:t>
            </a:r>
            <a:endParaRPr b="0" lang="en-US" sz="2800" spc="-1" strike="noStrike">
              <a:solidFill>
                <a:srgbClr val="0000cc"/>
              </a:solidFill>
              <a:latin typeface="으뜸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Ⅰ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world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란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?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E-world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는 인터넷과 웹 기술의 발전으로 인해 생성된 경제 활동 영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시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기존의 활동 영역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온라인 시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새로운 활동 영역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E-world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가 왜 중요한가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패러다임 변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즈니스 모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관계의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장의 역동성 증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새로운 시장과 경쟁자 출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고객과 기업 모두에게 이익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속적 성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56D4-107E-4F43-BE5F-A194464048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Ⅲ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marketing :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신사업 기회 창출 방안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구매 경험 강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고객이 쉽게 구매하도록 또는 구매 과정에 만족할 수 있도록 지원 서비스를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2133720"/>
            <a:ext cx="1066680" cy="406440"/>
          </a:xfrm>
          <a:prstGeom prst="rect">
            <a:avLst/>
          </a:prstGeom>
          <a:solidFill>
            <a:srgbClr val="0000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아이디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133720"/>
            <a:ext cx="3809880" cy="406440"/>
          </a:xfrm>
          <a:prstGeom prst="rect">
            <a:avLst/>
          </a:prstGeom>
          <a:solidFill>
            <a:srgbClr val="0000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개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2133720"/>
            <a:ext cx="3810240" cy="406440"/>
          </a:xfrm>
          <a:prstGeom prst="rect">
            <a:avLst/>
          </a:prstGeom>
          <a:solidFill>
            <a:srgbClr val="0000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사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590920"/>
            <a:ext cx="10666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솔루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38098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 욕구에 부합되는 모든 제품과 서비스를 조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2590920"/>
            <a:ext cx="381024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홈데포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이 혼자서 할 수 있도록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(do-it-yourself)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필요한 모든 것을 제공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200400"/>
            <a:ext cx="10666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원스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쇼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3200400"/>
            <a:ext cx="3809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이 원하는 제품이 있는 모든 사이트를 링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3200400"/>
            <a:ext cx="38102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오피스 데포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: stamps.com, TelePost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등과 링크시켜 고객 욕구를 최대한 충족시켜 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809880"/>
            <a:ext cx="106668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시스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3809880"/>
            <a:ext cx="380988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회사의 시스템을 고객이 직접 이용할 수 있도록 시스템을 지원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3809880"/>
            <a:ext cx="381024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Herman Miller: ‘room planner’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를 통해 고객이 자신의 사무실에 새 가구로 디자인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419720"/>
            <a:ext cx="10666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신속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19720"/>
            <a:ext cx="3809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이 원하는 것을 가장 신속하게 얻을 수 있도록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4419720"/>
            <a:ext cx="38102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아마존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구매 가능성이 있는 도서를 추천함으로써 고객이 바로 구매할 수 있도록 도와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029200"/>
            <a:ext cx="10666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최적 제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5029200"/>
            <a:ext cx="38098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에게 맞는 최적의 제품이 무엇인지 내역을 추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5029200"/>
            <a:ext cx="381024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Land’s End : ‘my virtual model’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를 통해 구매하고자 하는 수영복을 테스트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638680"/>
            <a:ext cx="106668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맞춤 제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5638680"/>
            <a:ext cx="380988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개별 고객이 원하는 제품 내역을 신속하게 전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5638680"/>
            <a:ext cx="381024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Chipshot.com :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프로 골퍼들이 직접 자신이 원하는 사양을 만들 수 있게 해 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2CDC-2F2E-4359-9DAE-CEB29D8BF5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Ⅲ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marketing :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신사업 기회 창출 방안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사용 경험 강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고객이 자사의 제품이나 서비스를 이용하는 동안 부가 서비스를 제공하여 고객의 만족도를 제고시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3048120"/>
            <a:ext cx="1066680" cy="406440"/>
          </a:xfrm>
          <a:prstGeom prst="rect">
            <a:avLst/>
          </a:prstGeom>
          <a:solidFill>
            <a:srgbClr val="0000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아이디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3048120"/>
            <a:ext cx="3809880" cy="406440"/>
          </a:xfrm>
          <a:prstGeom prst="rect">
            <a:avLst/>
          </a:prstGeom>
          <a:solidFill>
            <a:srgbClr val="0000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개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638680" y="3048120"/>
            <a:ext cx="3810240" cy="406440"/>
          </a:xfrm>
          <a:prstGeom prst="rect">
            <a:avLst/>
          </a:prstGeom>
          <a:solidFill>
            <a:srgbClr val="0000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사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3505320"/>
            <a:ext cx="10666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부가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3505320"/>
            <a:ext cx="38098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이 쉽게 제품을 사용할 수 있도록 도와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3505320"/>
            <a:ext cx="381024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Lonely Planet :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이 여행 도중 중요한 정보를 저장할 수 있는 사이트를 제공하고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4114800"/>
            <a:ext cx="106668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맞춤 지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4114800"/>
            <a:ext cx="380988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개별 고객의 욕구나 행동 성향에 맞게 부가 서비스를 제공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4114800"/>
            <a:ext cx="381024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델 컴퓨터 </a:t>
            </a: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: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서비스 수준에 대해 고객이 직접 종업원들과 협의할 수 있는 공간을 제공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21EBE-D202-4744-8575-CCFC9B1D13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47920" y="3505320"/>
            <a:ext cx="4343400" cy="20574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Ⅳ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service :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개념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웹을 이용한 서비스의 새로운 전달 방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servi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의 완벽한 모습은 고객의 욕구 변화를 실시간으로 체크하고 이에 대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앞으로 고객이 필요로 할 욕구를 예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343400"/>
            <a:ext cx="1270080" cy="3967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욕구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4368960" y="4343400"/>
            <a:ext cx="1269720" cy="3967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기업 대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4495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971800" y="464832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921040" y="4114800"/>
            <a:ext cx="127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으뜸체"/>
                <a:ea typeface="으뜸체"/>
              </a:rPr>
              <a:t>피드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921040" y="4572000"/>
            <a:ext cx="1270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으뜸체"/>
                <a:ea typeface="으뜸체"/>
              </a:rPr>
              <a:t>시장 조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1879560" y="3946680"/>
            <a:ext cx="711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으뜸체"/>
                <a:ea typeface="으뜸체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4673520" y="3946680"/>
            <a:ext cx="66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으뜸체"/>
                <a:ea typeface="으뜸체"/>
              </a:rPr>
              <a:t>T+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4191120"/>
            <a:ext cx="685800" cy="761760"/>
          </a:xfrm>
          <a:custGeom>
            <a:avLst/>
            <a:gdLst>
              <a:gd name="textAreaLeft" fmla="*/ 106920 w 685800"/>
              <a:gd name="textAreaRight" fmla="*/ 600120 w 685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6781680" y="3505320"/>
            <a:ext cx="1752840" cy="20574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886200"/>
            <a:ext cx="1270080" cy="3967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욕구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5013360"/>
            <a:ext cx="1270080" cy="3967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기업 대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4403880"/>
            <a:ext cx="86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으뜸체"/>
                <a:ea typeface="으뜸체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7442280" y="3505320"/>
            <a:ext cx="406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으뜸체"/>
                <a:ea typeface="으뜸체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1397-CF53-4E3E-81AC-8804B0454E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Ⅳ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service :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신사업 기회 창출 방안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고객 욕구에 대한 완전한 이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고객의 과거 및 현재 데이터의 축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이를 바탕으로 향후 고객이 필요로 하는 것이 무엇인지 예측하고 해결책을 마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서비스 라이프 사이클에 대한 정통한 지식 보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각 서비스 단계별로 사업을 수행하는 공급자와 그들이 제공하는 제품과 서비스에 대한 지식을 보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다양한 서비스 전달 방법 개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고객 욕구 및 공급자에 대한 철저한 이해를 바탕으로 다양한 서비스 전달 방법을 개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25F5-6282-402B-8914-4CF3CA254D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Ⅳ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service :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신사업 기회 창출 방안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905120" y="1751040"/>
            <a:ext cx="6076800" cy="4268880"/>
            <a:chOff x="1905120" y="1751040"/>
            <a:chExt cx="6076800" cy="4268880"/>
          </a:xfrm>
        </p:grpSpPr>
        <p:sp>
          <p:nvSpPr>
            <p:cNvPr id="225" name=""/>
            <p:cNvSpPr/>
            <p:nvPr/>
          </p:nvSpPr>
          <p:spPr>
            <a:xfrm>
              <a:off x="2819520" y="2131920"/>
              <a:ext cx="67140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주문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38480" y="1751040"/>
              <a:ext cx="66672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명세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05520" y="1751040"/>
              <a:ext cx="66672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유통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2200" y="1979640"/>
              <a:ext cx="66672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접근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8000" y="2513160"/>
              <a:ext cx="66672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지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15200" y="3274920"/>
              <a:ext cx="66672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배달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38880" y="4187880"/>
              <a:ext cx="66672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수용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4951440"/>
              <a:ext cx="66672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설치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5484960"/>
              <a:ext cx="66672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이용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8640" y="5713560"/>
              <a:ext cx="88884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버전업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4080" y="5408640"/>
              <a:ext cx="66672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수리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09680" y="4797360"/>
              <a:ext cx="66672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보상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05120" y="4113360"/>
              <a:ext cx="666720" cy="30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평가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38" name=""/>
            <p:cNvCxnSpPr>
              <a:stCxn id="225" idx="3"/>
              <a:endCxn id="226" idx="1"/>
            </p:cNvCxnSpPr>
            <p:nvPr/>
          </p:nvCxnSpPr>
          <p:spPr>
            <a:xfrm flipV="1">
              <a:off x="3490560" y="1904760"/>
              <a:ext cx="5482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26" idx="3"/>
              <a:endCxn id="227" idx="1"/>
            </p:cNvCxnSpPr>
            <p:nvPr/>
          </p:nvCxnSpPr>
          <p:spPr>
            <a:xfrm>
              <a:off x="4705200" y="1904760"/>
              <a:ext cx="401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>
              <a:stCxn id="227" idx="3"/>
              <a:endCxn id="228" idx="1"/>
            </p:cNvCxnSpPr>
            <p:nvPr/>
          </p:nvCxnSpPr>
          <p:spPr>
            <a:xfrm>
              <a:off x="5771880" y="1904760"/>
              <a:ext cx="400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28" idx="2"/>
              <a:endCxn id="229" idx="1"/>
            </p:cNvCxnSpPr>
            <p:nvPr/>
          </p:nvCxnSpPr>
          <p:spPr>
            <a:xfrm>
              <a:off x="6505200" y="2286000"/>
              <a:ext cx="3531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29" idx="2"/>
              <a:endCxn id="230" idx="0"/>
            </p:cNvCxnSpPr>
            <p:nvPr/>
          </p:nvCxnSpPr>
          <p:spPr>
            <a:xfrm>
              <a:off x="7191360" y="2819160"/>
              <a:ext cx="457920" cy="45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0" idx="2"/>
              <a:endCxn id="231" idx="0"/>
            </p:cNvCxnSpPr>
            <p:nvPr/>
          </p:nvCxnSpPr>
          <p:spPr>
            <a:xfrm flipH="1">
              <a:off x="7572240" y="3580920"/>
              <a:ext cx="76680" cy="60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31" idx="2"/>
              <a:endCxn id="232" idx="0"/>
            </p:cNvCxnSpPr>
            <p:nvPr/>
          </p:nvCxnSpPr>
          <p:spPr>
            <a:xfrm flipH="1">
              <a:off x="7114680" y="4494240"/>
              <a:ext cx="4579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32" idx="2"/>
              <a:endCxn id="233" idx="3"/>
            </p:cNvCxnSpPr>
            <p:nvPr/>
          </p:nvCxnSpPr>
          <p:spPr>
            <a:xfrm flipH="1">
              <a:off x="6609960" y="5257800"/>
              <a:ext cx="5054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3" idx="1"/>
              <a:endCxn id="234" idx="3"/>
            </p:cNvCxnSpPr>
            <p:nvPr/>
          </p:nvCxnSpPr>
          <p:spPr>
            <a:xfrm flipH="1">
              <a:off x="5397120" y="5638320"/>
              <a:ext cx="5464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4" idx="1"/>
              <a:endCxn id="235" idx="3"/>
            </p:cNvCxnSpPr>
            <p:nvPr/>
          </p:nvCxnSpPr>
          <p:spPr>
            <a:xfrm flipH="1" flipV="1">
              <a:off x="3790440" y="5562360"/>
              <a:ext cx="71856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35" idx="1"/>
              <a:endCxn id="236" idx="2"/>
            </p:cNvCxnSpPr>
            <p:nvPr/>
          </p:nvCxnSpPr>
          <p:spPr>
            <a:xfrm flipH="1" flipV="1">
              <a:off x="2543040" y="5103000"/>
              <a:ext cx="58140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36" idx="0"/>
              <a:endCxn id="237" idx="2"/>
            </p:cNvCxnSpPr>
            <p:nvPr/>
          </p:nvCxnSpPr>
          <p:spPr>
            <a:xfrm flipH="1" flipV="1">
              <a:off x="2238120" y="4419000"/>
              <a:ext cx="305280" cy="37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4495680" y="2665440"/>
              <a:ext cx="1314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Chemdex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1" name=""/>
            <p:cNvCxnSpPr>
              <a:stCxn id="250" idx="0"/>
              <a:endCxn id="227" idx="2"/>
            </p:cNvCxnSpPr>
            <p:nvPr/>
          </p:nvCxnSpPr>
          <p:spPr>
            <a:xfrm flipV="1">
              <a:off x="5153040" y="2056680"/>
              <a:ext cx="286560" cy="60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0"/>
              <a:endCxn id="228" idx="2"/>
            </p:cNvCxnSpPr>
            <p:nvPr/>
          </p:nvCxnSpPr>
          <p:spPr>
            <a:xfrm flipV="1">
              <a:off x="5152680" y="2285640"/>
              <a:ext cx="1353240" cy="38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3" name=""/>
            <p:cNvSpPr/>
            <p:nvPr/>
          </p:nvSpPr>
          <p:spPr>
            <a:xfrm>
              <a:off x="5181480" y="4645080"/>
              <a:ext cx="1314720" cy="30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Koda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4" name=""/>
            <p:cNvCxnSpPr>
              <a:stCxn id="253" idx="2"/>
              <a:endCxn id="233" idx="0"/>
            </p:cNvCxnSpPr>
            <p:nvPr/>
          </p:nvCxnSpPr>
          <p:spPr>
            <a:xfrm>
              <a:off x="5838480" y="4951440"/>
              <a:ext cx="43884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5" name=""/>
            <p:cNvSpPr/>
            <p:nvPr/>
          </p:nvSpPr>
          <p:spPr>
            <a:xfrm>
              <a:off x="3200400" y="4645080"/>
              <a:ext cx="1428840" cy="30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John Deer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56" name=""/>
            <p:cNvCxnSpPr>
              <a:stCxn id="255" idx="2"/>
              <a:endCxn id="235" idx="0"/>
            </p:cNvCxnSpPr>
            <p:nvPr/>
          </p:nvCxnSpPr>
          <p:spPr>
            <a:xfrm flipH="1">
              <a:off x="3457080" y="4951440"/>
              <a:ext cx="4579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6679-8694-45A9-AFB6-EFA4BC85BF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Ⅴ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국내 기업에의 제언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지구력을 가져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큰 그림을 그려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시작부터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E-world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를 고려하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가치 있는 데이터를 확보하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2DA3-08AF-4612-8A8D-0AE240B6DB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Ⅰ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world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란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?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3666960"/>
            <a:ext cx="18288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으뜸체"/>
              </a:rPr>
              <a:t>경쟁력 강화 및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으뜸체"/>
              </a:rPr>
              <a:t>신사업 기회 창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6499080" y="341640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으뜸체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으뜸체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971800"/>
            <a:ext cx="24382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068640"/>
            <a:ext cx="2149560" cy="4366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으뜸체"/>
              </a:rPr>
              <a:t>운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으뜸체"/>
              </a:rPr>
              <a:t>(operatio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828960"/>
            <a:ext cx="2149560" cy="4366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으뜸체"/>
              </a:rPr>
              <a:t>마케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으뜸체"/>
              </a:rPr>
              <a:t>(market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592520"/>
            <a:ext cx="2149560" cy="4366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으뜸체"/>
              </a:rPr>
              <a:t>서비스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으뜸체"/>
              </a:rPr>
              <a:t>(servic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971800"/>
            <a:ext cx="19047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3067200"/>
            <a:ext cx="1752840" cy="4363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으뜸체"/>
              </a:rPr>
              <a:t>E-oper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828960"/>
            <a:ext cx="1752840" cy="43668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으뜸체"/>
              </a:rPr>
              <a:t>E-marke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4591080"/>
            <a:ext cx="1752840" cy="43668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으뜸체"/>
              </a:rPr>
              <a:t>E-serv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92" name=""/>
          <p:cNvCxnSpPr>
            <a:stCxn id="89" idx="3"/>
            <a:endCxn id="91" idx="3"/>
          </p:cNvCxnSpPr>
          <p:nvPr/>
        </p:nvCxnSpPr>
        <p:spPr>
          <a:xfrm>
            <a:off x="6248520" y="3285720"/>
            <a:ext cx="2160" cy="1524600"/>
          </a:xfrm>
          <a:prstGeom prst="bentConnector3">
            <a:avLst>
              <a:gd name="adj1" fmla="val 1440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90" idx="3"/>
            <a:endCxn id="82" idx="1"/>
          </p:cNvCxnSpPr>
          <p:nvPr/>
        </p:nvCxnSpPr>
        <p:spPr>
          <a:xfrm>
            <a:off x="6248520" y="404784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4" name=""/>
          <p:cNvGrpSpPr/>
          <p:nvPr/>
        </p:nvGrpSpPr>
        <p:grpSpPr>
          <a:xfrm>
            <a:off x="2895480" y="3048120"/>
            <a:ext cx="1524240" cy="2171520"/>
            <a:chOff x="2895480" y="3048120"/>
            <a:chExt cx="1524240" cy="2171520"/>
          </a:xfrm>
        </p:grpSpPr>
        <p:sp>
          <p:nvSpPr>
            <p:cNvPr id="95" name=""/>
            <p:cNvSpPr/>
            <p:nvPr/>
          </p:nvSpPr>
          <p:spPr>
            <a:xfrm>
              <a:off x="2895480" y="3171600"/>
              <a:ext cx="1524240" cy="228240"/>
            </a:xfrm>
            <a:custGeom>
              <a:avLst/>
              <a:gdLst>
                <a:gd name="textAreaLeft" fmla="*/ 237960 w 1524240"/>
                <a:gd name="textAreaRight" fmla="*/ 1465200 w 1524240"/>
                <a:gd name="textAreaTop" fmla="*/ 66600 h 228240"/>
                <a:gd name="textAreaBottom" fmla="*/ 16164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300"/>
                  </a:moveTo>
                  <a:lnTo>
                    <a:pt x="19584" y="6300"/>
                  </a:lnTo>
                  <a:lnTo>
                    <a:pt x="19584" y="0"/>
                  </a:lnTo>
                  <a:lnTo>
                    <a:pt x="21600" y="10800"/>
                  </a:lnTo>
                  <a:lnTo>
                    <a:pt x="19584" y="21600"/>
                  </a:lnTo>
                  <a:lnTo>
                    <a:pt x="19584" y="15300"/>
                  </a:lnTo>
                  <a:lnTo>
                    <a:pt x="3375" y="15300"/>
                  </a:lnTo>
                  <a:close/>
                </a:path>
                <a:path w="21600" h="21600">
                  <a:moveTo>
                    <a:pt x="0" y="6300"/>
                  </a:moveTo>
                  <a:lnTo>
                    <a:pt x="675" y="6300"/>
                  </a:lnTo>
                  <a:lnTo>
                    <a:pt x="675" y="15300"/>
                  </a:lnTo>
                  <a:lnTo>
                    <a:pt x="0" y="15300"/>
                  </a:lnTo>
                  <a:close/>
                </a:path>
                <a:path w="21600" h="21600">
                  <a:moveTo>
                    <a:pt x="1350" y="6300"/>
                  </a:moveTo>
                  <a:lnTo>
                    <a:pt x="2700" y="6300"/>
                  </a:lnTo>
                  <a:lnTo>
                    <a:pt x="2700" y="15300"/>
                  </a:lnTo>
                  <a:lnTo>
                    <a:pt x="1350" y="153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3981240"/>
              <a:ext cx="1524240" cy="228240"/>
            </a:xfrm>
            <a:custGeom>
              <a:avLst/>
              <a:gdLst>
                <a:gd name="textAreaLeft" fmla="*/ 237960 w 1524240"/>
                <a:gd name="textAreaRight" fmla="*/ 1465200 w 1524240"/>
                <a:gd name="textAreaTop" fmla="*/ 66600 h 228240"/>
                <a:gd name="textAreaBottom" fmla="*/ 16164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300"/>
                  </a:moveTo>
                  <a:lnTo>
                    <a:pt x="19584" y="6300"/>
                  </a:lnTo>
                  <a:lnTo>
                    <a:pt x="19584" y="0"/>
                  </a:lnTo>
                  <a:lnTo>
                    <a:pt x="21600" y="10800"/>
                  </a:lnTo>
                  <a:lnTo>
                    <a:pt x="19584" y="21600"/>
                  </a:lnTo>
                  <a:lnTo>
                    <a:pt x="19584" y="15300"/>
                  </a:lnTo>
                  <a:lnTo>
                    <a:pt x="3375" y="15300"/>
                  </a:lnTo>
                  <a:close/>
                </a:path>
                <a:path w="21600" h="21600">
                  <a:moveTo>
                    <a:pt x="0" y="6300"/>
                  </a:moveTo>
                  <a:lnTo>
                    <a:pt x="675" y="6300"/>
                  </a:lnTo>
                  <a:lnTo>
                    <a:pt x="675" y="15300"/>
                  </a:lnTo>
                  <a:lnTo>
                    <a:pt x="0" y="15300"/>
                  </a:lnTo>
                  <a:close/>
                </a:path>
                <a:path w="21600" h="21600">
                  <a:moveTo>
                    <a:pt x="1350" y="6300"/>
                  </a:moveTo>
                  <a:lnTo>
                    <a:pt x="2700" y="6300"/>
                  </a:lnTo>
                  <a:lnTo>
                    <a:pt x="2700" y="15300"/>
                  </a:lnTo>
                  <a:lnTo>
                    <a:pt x="1350" y="153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95480" y="4743360"/>
              <a:ext cx="1524240" cy="228240"/>
            </a:xfrm>
            <a:custGeom>
              <a:avLst/>
              <a:gdLst>
                <a:gd name="textAreaLeft" fmla="*/ 237960 w 1524240"/>
                <a:gd name="textAreaRight" fmla="*/ 1465200 w 1524240"/>
                <a:gd name="textAreaTop" fmla="*/ 66600 h 228240"/>
                <a:gd name="textAreaBottom" fmla="*/ 16164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300"/>
                  </a:moveTo>
                  <a:lnTo>
                    <a:pt x="19584" y="6300"/>
                  </a:lnTo>
                  <a:lnTo>
                    <a:pt x="19584" y="0"/>
                  </a:lnTo>
                  <a:lnTo>
                    <a:pt x="21600" y="10800"/>
                  </a:lnTo>
                  <a:lnTo>
                    <a:pt x="19584" y="21600"/>
                  </a:lnTo>
                  <a:lnTo>
                    <a:pt x="19584" y="15300"/>
                  </a:lnTo>
                  <a:lnTo>
                    <a:pt x="3375" y="15300"/>
                  </a:lnTo>
                  <a:close/>
                </a:path>
                <a:path w="21600" h="21600">
                  <a:moveTo>
                    <a:pt x="0" y="6300"/>
                  </a:moveTo>
                  <a:lnTo>
                    <a:pt x="675" y="6300"/>
                  </a:lnTo>
                  <a:lnTo>
                    <a:pt x="675" y="15300"/>
                  </a:lnTo>
                  <a:lnTo>
                    <a:pt x="0" y="15300"/>
                  </a:lnTo>
                  <a:close/>
                </a:path>
                <a:path w="21600" h="21600">
                  <a:moveTo>
                    <a:pt x="1350" y="6300"/>
                  </a:moveTo>
                  <a:lnTo>
                    <a:pt x="2700" y="6300"/>
                  </a:lnTo>
                  <a:lnTo>
                    <a:pt x="2700" y="15300"/>
                  </a:lnTo>
                  <a:lnTo>
                    <a:pt x="1350" y="153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71800" y="3048120"/>
              <a:ext cx="1295280" cy="2171520"/>
            </a:xfrm>
            <a:prstGeom prst="irregularSeal1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웹 기술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으뜸체"/>
                </a:rPr>
                <a:t>(Web Tech.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06400" y="5334120"/>
            <a:ext cx="1752480" cy="9302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185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자사 중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2600" indent="-185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일방적 관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2600" indent="-185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소극적 반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5334120"/>
            <a:ext cx="1752840" cy="9302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185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Win-w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2600" indent="-185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호혜적 관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82600" indent="-185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으뜸체"/>
                <a:ea typeface="으뜸체"/>
              </a:rPr>
              <a:t>적극적 반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01" name=""/>
          <p:cNvCxnSpPr>
            <a:stCxn id="84" idx="2"/>
            <a:endCxn id="99" idx="0"/>
          </p:cNvCxnSpPr>
          <p:nvPr/>
        </p:nvCxnSpPr>
        <p:spPr>
          <a:xfrm>
            <a:off x="1676160" y="5105160"/>
            <a:ext cx="684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2"/>
            <a:endCxn id="100" idx="0"/>
          </p:cNvCxnSpPr>
          <p:nvPr/>
        </p:nvCxnSpPr>
        <p:spPr>
          <a:xfrm>
            <a:off x="5371920" y="5105160"/>
            <a:ext cx="108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어디에서 신사업 기회를 찾을 것인가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웹 기반에 적합한 제품과 서비스 창출에 필요한 인프라와 운영 프로세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op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웹 기반에서 제품과 서비스를 고객에게 전달하는 활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mark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품 및 서비스의 새로운 전달 방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F379-CF72-411E-A802-D0DC05F2D1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Ⅱ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operation :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개념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웹에 적합한 제품과 서비스를 만들어 내는데 필요한 인프라와 운영 프로세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업 기회는 제품과 서비스에 내재되어 있는 정보에 의해 좌우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4040" y="2614680"/>
            <a:ext cx="228600" cy="2352600"/>
          </a:xfrm>
          <a:prstGeom prst="upArrow">
            <a:avLst>
              <a:gd name="adj1" fmla="val 50000"/>
              <a:gd name="adj2" fmla="val 257283"/>
            </a:avLst>
          </a:prstGeom>
          <a:solidFill>
            <a:srgbClr val="0000cc"/>
          </a:solidFill>
          <a:ln w="9360">
            <a:solidFill>
              <a:srgbClr val="3333cc"/>
            </a:solidFill>
            <a:miter/>
          </a:ln>
          <a:effectLst>
            <a:outerShdw dist="25560" dir="108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1449000">
            <a:off x="4028760" y="5303880"/>
            <a:ext cx="2496960" cy="228600"/>
          </a:xfrm>
          <a:prstGeom prst="rightArrow">
            <a:avLst>
              <a:gd name="adj1" fmla="val 50000"/>
              <a:gd name="adj2" fmla="val 273071"/>
            </a:avLst>
          </a:prstGeom>
          <a:solidFill>
            <a:srgbClr val="0000cc"/>
          </a:solidFill>
          <a:ln w="9360">
            <a:solidFill>
              <a:srgbClr val="3333cc"/>
            </a:solidFill>
            <a:miter/>
          </a:ln>
          <a:effectLst>
            <a:outerShdw dist="381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 rot="20137200">
            <a:off x="4057560" y="4389120"/>
            <a:ext cx="1962360" cy="228600"/>
          </a:xfrm>
          <a:prstGeom prst="rightArrow">
            <a:avLst>
              <a:gd name="adj1" fmla="val 50000"/>
              <a:gd name="adj2" fmla="val 214606"/>
            </a:avLst>
          </a:prstGeom>
          <a:solidFill>
            <a:srgbClr val="0000cc"/>
          </a:solidFill>
          <a:ln w="9360">
            <a:solidFill>
              <a:srgbClr val="3333cc"/>
            </a:solidFill>
            <a:miter/>
          </a:ln>
          <a:effectLst>
            <a:outerShdw dist="17819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3704760" y="26049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3704760" y="4738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5508000" y="3780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449440" y="31240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3300"/>
                </a:solidFill>
                <a:latin typeface="으뜸체"/>
                <a:ea typeface="으뜸체"/>
              </a:rPr>
              <a:t>기본 인프라의 웹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25880" y="57150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으뜸체"/>
                <a:ea typeface="으뜸체"/>
              </a:rPr>
              <a:t>내부 협력체제 구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4973760" y="447984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3300"/>
                </a:solidFill>
                <a:latin typeface="Arial"/>
                <a:ea typeface="으뜸체"/>
              </a:rPr>
              <a:t>E-procurement </a:t>
            </a:r>
            <a:r>
              <a:rPr b="0" lang="ko-KR" sz="1800" spc="-1" strike="noStrike">
                <a:solidFill>
                  <a:srgbClr val="cc3300"/>
                </a:solidFill>
                <a:latin typeface="Arial"/>
                <a:ea typeface="으뜸체"/>
              </a:rPr>
              <a:t>강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3300"/>
                </a:solidFill>
                <a:latin typeface="Arial"/>
                <a:ea typeface="으뜸체"/>
              </a:rPr>
              <a:t>공급망 통합 및 재구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4245480" y="23623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으뜸체"/>
              </a:rPr>
              <a:t>정보의 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5997960" y="3780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으뜸체"/>
              </a:rPr>
              <a:t>정보 집약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557040" y="56689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으뜸체"/>
              </a:rPr>
              <a:t>정보 분산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5913360"/>
            <a:ext cx="3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1851480" y="4556160"/>
            <a:ext cx="8557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3300"/>
                </a:solidFill>
                <a:latin typeface="으뜸체"/>
                <a:ea typeface="으뜸체"/>
              </a:rPr>
              <a:t>내부 기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0" name=""/>
          <p:cNvCxnSpPr>
            <a:stCxn id="119" idx="0"/>
            <a:endCxn id="112" idx="2"/>
          </p:cNvCxnSpPr>
          <p:nvPr/>
        </p:nvCxnSpPr>
        <p:spPr>
          <a:xfrm flipV="1">
            <a:off x="2279520" y="3490200"/>
            <a:ext cx="869040" cy="10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9" idx="2"/>
            <a:endCxn id="113" idx="1"/>
          </p:cNvCxnSpPr>
          <p:nvPr/>
        </p:nvCxnSpPr>
        <p:spPr>
          <a:xfrm>
            <a:off x="2279160" y="4962600"/>
            <a:ext cx="153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593480" y="4597560"/>
            <a:ext cx="8557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3300"/>
                </a:solidFill>
                <a:latin typeface="으뜸체"/>
                <a:ea typeface="으뜸체"/>
              </a:rPr>
              <a:t>외부 기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3" name=""/>
          <p:cNvCxnSpPr>
            <a:stCxn id="122" idx="1"/>
            <a:endCxn id="114" idx="3"/>
          </p:cNvCxnSpPr>
          <p:nvPr/>
        </p:nvCxnSpPr>
        <p:spPr>
          <a:xfrm flipH="1">
            <a:off x="7076880" y="4800240"/>
            <a:ext cx="390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9EF1-3F42-437C-A8FD-28EC038951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Ⅱ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operation :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신사업 기회 창출 방안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61960"/>
            <a:ext cx="868680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기본 인프라의 웹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자사의 비즈니스를 지원하는 프로세스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S/W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등과 같은 기본 인프라를 웹 환경에 맞도록 리엔지니어링 하는 것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프라의 웹화는 신속한 추문 처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고객 지원 서비스 강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품의 단위 비용 개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신제품의 신속한 시장 출시 등이 가능케 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3809880"/>
            <a:ext cx="8076960" cy="22860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&lt;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재무 서비스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투자은행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증권사 등의 금융기관이 온라인 시장에 진출하기 위해서는 다양한 정보를 처리할 수 있도록 기본 인프라를 웹 환경에 맞게 리엔지니어링해야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&lt;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출판사업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오프라인의 출판사가 온라인으로 진출하기 위해서는 많은 정보를 다룰 수 있도록 기본 인프라를 재구축해야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5930-5850-4D94-ADC9-A1B7A0B311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Ⅱ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operation :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신사업 기회 창출 방안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내부 협력체제 구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로 다른 사업단위를 도와주는 협력체제를 구축함으로써 모기업의 가치를 증대시키는 것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특히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프로젝트에 따라 제품 및 서비스의 정보가 가치 사슬 내에 분산되어 있는 경우 네트워크를 이용해 정보와 지식을 공유함으로써 모기업의 가치를 증대시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733920"/>
            <a:ext cx="8076960" cy="236196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&lt;BP Amoco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전세계 사업단위에 분산되어 있는 지식을 상호 공유하고 다른 사업 단위를 도와주는 ‘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peers group’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과 이를 관리하는 ‘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T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형 경영자’ 등의 제도를 운영하여 기업 가치를 증대시키고 있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&lt;Regus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이 회사는 인트라 넷을 성공적인 운영 사례의 공유 툴로 활용하고 있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4235-314F-4958-8715-5C022080C6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Ⅱ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operation :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신사업 기회 창출 방안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-procurement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강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인터넷을 자재나 부품의 공급 채널로 활용함으로써 조달 능력을 강화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이를 통해 공급자 기반을 확대하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보다 저렴한 가격으로 부품 및 자재를 조달하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관리비용을 절감할 수 있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505320"/>
            <a:ext cx="8076960" cy="236196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&lt;GE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웹 사이트에서 직접 대금결제가 가능하도록 하고 있으며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인터넷을 적극 활용함으로써 구매 및 관리 비용을 절감하고 있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&lt;</a:t>
            </a: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미국 자동차업체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미국 자동차의 빅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는 개별 기업 차원은 물론 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사가 공동으로 인터넷을 통해 부품을 조달하여 차 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대당 </a:t>
            </a:r>
            <a:r>
              <a:rPr b="0" lang="en-US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1,000</a:t>
            </a:r>
            <a:r>
              <a:rPr b="0" lang="zh-CN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달러 이상의 비용을 절감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4352-1531-49A3-AFE7-40A851E030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Ⅱ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operation :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신사업 기회 창출 방안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686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공급망 통합 및 재구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상통합 기술을 활용하여 기존의 공급망을 통합하거나 재구축함으로써 신사업 기회를 발굴할 수 있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든 공급자와 이상적인 네트워크를 구축하여 필요한 정보와 지식에 즉각적으로 접근할 수 있으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수직적 통합의 장점을 네트워크 상에서 이용할 수 있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3886200"/>
            <a:ext cx="8076960" cy="20574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94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&lt;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델 컴퓨터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컴퓨터의 직접 판매로 성공한 델 컴퓨터가 가상통합 기술을 이용하여 공급망을 구축한 대표적인 사례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79440" indent="-282600">
              <a:lnSpc>
                <a:spcPct val="100000"/>
              </a:lnSpc>
              <a:buClr>
                <a:srgbClr val="000000"/>
              </a:buClr>
              <a:buFont typeface="으뜸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마이클 델은 공급망을 가상통합이 아닌 오프라인 상으로 수직통합했을 경우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지금보다 최소 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으뜸체"/>
                <a:ea typeface="으뜸체"/>
              </a:rPr>
              <a:t>배가 넘는 종업원이 필요할 것이라고 말할 정도로 가상통합 기술은 획기적인 공급망 구축 전략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5EEE7-A687-4022-A420-A135C8A36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Ⅲ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marketing :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개념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웹 기반에서 제품과 서비스를 고객에게 전달하는 활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사업 기회는 고객이 인지하는 차별화와 구매 빈도에 의해 결정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514600"/>
            <a:ext cx="2514600" cy="15541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&lt;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구매 경험 강화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원스톱 쇼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신속한 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&lt;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사용 경험 강화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부가 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맞춤 지원 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2514600"/>
            <a:ext cx="2590920" cy="15541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으뜸체"/>
              </a:rPr>
              <a:t>&lt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판매 프로세스 강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으뜸체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로열티 제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4822920"/>
            <a:ext cx="2514600" cy="13636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으뜸체"/>
              </a:rPr>
              <a:t>&lt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구매 경험 강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으뜸체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솔루션 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시스템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최적 제품 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맞춤 제품 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4842000"/>
            <a:ext cx="2590920" cy="1330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&lt;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판매 프로세스  강화</a:t>
            </a: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고객 참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목표 고객 선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고객 통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으뜸체"/>
              </a:rPr>
              <a:t>제품 사용 효익 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316880" y="42814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8438400" y="42814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으뜸체"/>
              </a:rPr>
              <a:t>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3014640" y="3929040"/>
            <a:ext cx="4054320" cy="736560"/>
          </a:xfrm>
          <a:prstGeom prst="leftRightArrow">
            <a:avLst>
              <a:gd name="adj1" fmla="val 49407"/>
              <a:gd name="adj2" fmla="val 41181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701720" y="4070520"/>
            <a:ext cx="6680160" cy="758520"/>
          </a:xfrm>
          <a:prstGeom prst="leftRightArrow">
            <a:avLst>
              <a:gd name="adj1" fmla="val 47917"/>
              <a:gd name="adj2" fmla="val 7510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으뜸체"/>
              </a:rPr>
              <a:t>차별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4893120" y="2666880"/>
            <a:ext cx="3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으뜸체"/>
              </a:rPr>
              <a:t>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으뜸체"/>
              </a:rPr>
              <a:t>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으뜸체"/>
              </a:rPr>
              <a:t>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으뜸체"/>
              </a:rPr>
              <a:t>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890600" y="5943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으뜸체"/>
              </a:rPr>
              <a:t>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890600" y="2330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으뜸체"/>
              </a:rPr>
              <a:t>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E4C1-F948-47A1-B4E5-CC0DA56D6A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927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Ⅲ</a:t>
            </a:r>
            <a:r>
              <a:rPr b="0" lang="en-US" sz="2600" spc="-1" strike="noStrike">
                <a:solidFill>
                  <a:srgbClr val="0000cc"/>
                </a:solidFill>
                <a:latin typeface="으뜸체"/>
              </a:rPr>
              <a:t>. E-marketing : </a:t>
            </a:r>
            <a:r>
              <a:rPr b="0" lang="zh-CN" sz="2600" spc="-1" strike="noStrike">
                <a:solidFill>
                  <a:srgbClr val="0000cc"/>
                </a:solidFill>
                <a:latin typeface="으뜸체"/>
              </a:rPr>
              <a:t>신사업 기회 창출 방안</a:t>
            </a:r>
            <a:endParaRPr b="0" lang="en-US" sz="2600" spc="-1" strike="noStrike">
              <a:solidFill>
                <a:srgbClr val="0000cc"/>
              </a:solidFill>
              <a:latin typeface="으뜸체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</a:rPr>
              <a:t>판매 프로세스 강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경쟁사 대비 제품과 서비스의 차별성이 높은 경우 제품 특성이나 효익을 제시하여 판매 효과를 높이는 방안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590920"/>
            <a:ext cx="1066680" cy="406440"/>
          </a:xfrm>
          <a:prstGeom prst="rect">
            <a:avLst/>
          </a:prstGeom>
          <a:solidFill>
            <a:srgbClr val="0000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아이디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3809880" cy="406440"/>
          </a:xfrm>
          <a:prstGeom prst="rect">
            <a:avLst/>
          </a:prstGeom>
          <a:solidFill>
            <a:srgbClr val="0000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개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2590920"/>
            <a:ext cx="3810240" cy="406440"/>
          </a:xfrm>
          <a:prstGeom prst="rect">
            <a:avLst/>
          </a:prstGeom>
          <a:solidFill>
            <a:srgbClr val="0000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으뜸체"/>
                <a:ea typeface="으뜸체"/>
              </a:rPr>
              <a:t>사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048120"/>
            <a:ext cx="10666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 참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3048120"/>
            <a:ext cx="38098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품 개발 과정에 고객이 직접 참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3048120"/>
            <a:ext cx="381024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포드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온라인 디자인 스튜디오를 운영하면서 고객의 의견을 반영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657600"/>
            <a:ext cx="10666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목표 고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선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3657600"/>
            <a:ext cx="3809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의 현재 상태를 트랙킹함으로써 관련 제품의 정보 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3657600"/>
            <a:ext cx="38102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아마존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의 과거 구매 경력을 바탕으로 고객이 관심있어 할 새로운 도서를 추천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267080"/>
            <a:ext cx="106668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 통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4267080"/>
            <a:ext cx="380988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전세계에 세분화되어 있는 고객에게 경제적 비용으로 접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4267080"/>
            <a:ext cx="381024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eHobbies : </a:t>
            </a: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인터넷을 전세계 고객을 연결하는 채널로 활용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876920"/>
            <a:ext cx="10666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품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효익 제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4876920"/>
            <a:ext cx="3809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품 사용과 관련된 효익을 제공하는 방법 개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876920"/>
            <a:ext cx="38102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Timex : i-Control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이라는 시간 설정 시스템을 인터넷에서 다운로드 받을 수 있도록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486400"/>
            <a:ext cx="10666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로열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제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5486400"/>
            <a:ext cx="380988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에 대한 지속적인 트랙킹을 통해 고객과의 결속력 제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5486400"/>
            <a:ext cx="381024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W.W Grainger : </a:t>
            </a:r>
            <a:r>
              <a:rPr b="0" lang="zh-CN" sz="1600" spc="-1" strike="noStrike">
                <a:solidFill>
                  <a:srgbClr val="000000"/>
                </a:solidFill>
                <a:latin typeface="으뜸체"/>
                <a:ea typeface="으뜸체"/>
              </a:rPr>
              <a:t>고객이 만든 문서를 저장하여 이를 바탕으로 지속적인 서비스를 제공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D7E5-D0E0-4AF8-84CD-151595DEAF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07:58:09Z</dcterms:created>
  <dc:creator>윤운락</dc:creator>
  <dc:description/>
  <dc:language>en-US</dc:language>
  <cp:lastModifiedBy>전민규</cp:lastModifiedBy>
  <cp:lastPrinted>2001-07-25T01:19:12Z</cp:lastPrinted>
  <dcterms:modified xsi:type="dcterms:W3CDTF">2001-07-25T01:52:22Z</dcterms:modified>
  <cp:revision>251</cp:revision>
  <dc:subject/>
  <dc:title>아앙</dc:title>
</cp:coreProperties>
</file>